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EAC-3229-4800-94E8-95300510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CA2-6C84-4E4D-ADC2-6E8D5433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936-F0D9-4F3B-B5B4-02B1B671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83F-5A7F-4C85-9347-295EBBCB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F5E-A43E-4151-BFD7-DD74BD7C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26D-0D33-440D-9467-EEEAF60C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90B-7E19-467B-9C3E-E7D7E2E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8A5-CBDF-4592-9EEF-79DA65B3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6EC-FEB1-419E-B6F3-0F2B64AA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1AA-0895-4D36-8609-5BD96362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C94-0BF6-4D9B-ABE3-49BF45E7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2CC-2287-4088-A572-0EC4A571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D7A3-36E6-4E5A-9C42-2397825D1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_ucdb_MECATRONIC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auro@ucdb.br" TargetMode="External"/><Relationship Id="rId2" Type="http://schemas.openxmlformats.org/officeDocument/2006/relationships/hyperlink" Target="mailto:mauro@ucdb.br" TargetMode="External"/><Relationship Id="rId3" Type="http://schemas.openxmlformats.org/officeDocument/2006/relationships/hyperlink" Target="mailto:mauro@ucdb.br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31800" cy="704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1992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01000" y="1295280"/>
            <a:ext cx="762120" cy="560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of.Eng.Mauro C. Pereir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jetos em Sistemas Micropro-cessados e Instrumentação Intel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licações em Sistemas Biomédicos, eng.de reabilitação, Automação e Controle, Agronegócios, Ens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1.câmera – para capturar ima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.microcomputador – para processar a im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3.Kit de microcontrolador: controla quais eletrodos ati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4.circuitos de estimulaçã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otherboard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com fonte e configu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   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lacas de chaveamento e estimulação por col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laca de conversão do sinal de ultra-som para emitir vibraçã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5.Matriz de eletro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6.sensor de ultra-som – para definir distâ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7. Vibrador proporcional à distâ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352680" y="2057400"/>
            <a:ext cx="5562360" cy="4470480"/>
            <a:chOff x="3352680" y="2057400"/>
            <a:chExt cx="5562360" cy="4470480"/>
          </a:xfrm>
        </p:grpSpPr>
        <p:sp>
          <p:nvSpPr>
            <p:cNvPr id="62" name=""/>
            <p:cNvSpPr/>
            <p:nvPr/>
          </p:nvSpPr>
          <p:spPr>
            <a:xfrm>
              <a:off x="7201800" y="6202080"/>
              <a:ext cx="527400" cy="0"/>
            </a:xfrm>
            <a:prstGeom prst="line">
              <a:avLst/>
            </a:prstGeom>
            <a:ln w="763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60640" y="5717520"/>
              <a:ext cx="2284560" cy="563400"/>
            </a:xfrm>
            <a:prstGeom prst="parallelogram">
              <a:avLst>
                <a:gd name="adj" fmla="val 14036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29200" y="5846760"/>
              <a:ext cx="1185840" cy="453240"/>
            </a:xfrm>
            <a:prstGeom prst="cube">
              <a:avLst>
                <a:gd name="adj" fmla="val 7118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6200000">
              <a:off x="5810040" y="5572080"/>
              <a:ext cx="707040" cy="615240"/>
            </a:xfrm>
            <a:prstGeom prst="parallelogram">
              <a:avLst>
                <a:gd name="adj" fmla="val 7304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6200000">
              <a:off x="5974920" y="5572080"/>
              <a:ext cx="707040" cy="615240"/>
            </a:xfrm>
            <a:prstGeom prst="parallelogram">
              <a:avLst>
                <a:gd name="adj" fmla="val 7304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6200000">
              <a:off x="6139800" y="5572080"/>
              <a:ext cx="707040" cy="615240"/>
            </a:xfrm>
            <a:prstGeom prst="parallelogram">
              <a:avLst>
                <a:gd name="adj" fmla="val 7304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6200000">
              <a:off x="6303960" y="5572440"/>
              <a:ext cx="707040" cy="614520"/>
            </a:xfrm>
            <a:prstGeom prst="parallelogram">
              <a:avLst>
                <a:gd name="adj" fmla="val 7313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6200000">
              <a:off x="6469200" y="5572440"/>
              <a:ext cx="707040" cy="614520"/>
            </a:xfrm>
            <a:prstGeom prst="parallelogram">
              <a:avLst>
                <a:gd name="adj" fmla="val 7313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6200000">
              <a:off x="6609240" y="5772240"/>
              <a:ext cx="494280" cy="394920"/>
            </a:xfrm>
            <a:prstGeom prst="parallelogram">
              <a:avLst>
                <a:gd name="adj" fmla="val 689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87760" y="5861880"/>
              <a:ext cx="659160" cy="113760"/>
            </a:xfrm>
            <a:prstGeom prst="cube">
              <a:avLst>
                <a:gd name="adj" fmla="val 6842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911560" y="2057400"/>
              <a:ext cx="2322000" cy="2922840"/>
              <a:chOff x="5911560" y="2057400"/>
              <a:chExt cx="2322000" cy="2922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911560" y="2057400"/>
                <a:ext cx="2322000" cy="2903400"/>
                <a:chOff x="5911560" y="2057400"/>
                <a:chExt cx="2322000" cy="29034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7009560" y="2057400"/>
                  <a:ext cx="1224000" cy="2903400"/>
                </a:xfrm>
                <a:custGeom>
                  <a:avLst/>
                  <a:gdLst/>
                  <a:ahLst/>
                  <a:rect l="l" t="t" r="r" b="b"/>
                  <a:pathLst>
                    <a:path w="1450" h="4970">
                      <a:moveTo>
                        <a:pt x="0" y="0"/>
                      </a:moveTo>
                      <a:cubicBezTo>
                        <a:pt x="58" y="4"/>
                        <a:pt x="117" y="8"/>
                        <a:pt x="170" y="20"/>
                      </a:cubicBezTo>
                      <a:cubicBezTo>
                        <a:pt x="223" y="32"/>
                        <a:pt x="265" y="42"/>
                        <a:pt x="320" y="70"/>
                      </a:cubicBezTo>
                      <a:cubicBezTo>
                        <a:pt x="375" y="98"/>
                        <a:pt x="452" y="137"/>
                        <a:pt x="500" y="190"/>
                      </a:cubicBezTo>
                      <a:cubicBezTo>
                        <a:pt x="548" y="243"/>
                        <a:pt x="580" y="337"/>
                        <a:pt x="610" y="390"/>
                      </a:cubicBezTo>
                      <a:cubicBezTo>
                        <a:pt x="640" y="443"/>
                        <a:pt x="667" y="470"/>
                        <a:pt x="680" y="510"/>
                      </a:cubicBezTo>
                      <a:cubicBezTo>
                        <a:pt x="693" y="550"/>
                        <a:pt x="693" y="573"/>
                        <a:pt x="690" y="630"/>
                      </a:cubicBezTo>
                      <a:cubicBezTo>
                        <a:pt x="687" y="687"/>
                        <a:pt x="682" y="783"/>
                        <a:pt x="660" y="850"/>
                      </a:cubicBezTo>
                      <a:cubicBezTo>
                        <a:pt x="638" y="917"/>
                        <a:pt x="603" y="965"/>
                        <a:pt x="560" y="1030"/>
                      </a:cubicBezTo>
                      <a:cubicBezTo>
                        <a:pt x="517" y="1095"/>
                        <a:pt x="438" y="1162"/>
                        <a:pt x="400" y="1240"/>
                      </a:cubicBezTo>
                      <a:cubicBezTo>
                        <a:pt x="362" y="1318"/>
                        <a:pt x="338" y="1428"/>
                        <a:pt x="330" y="1500"/>
                      </a:cubicBezTo>
                      <a:cubicBezTo>
                        <a:pt x="322" y="1572"/>
                        <a:pt x="323" y="1627"/>
                        <a:pt x="350" y="1670"/>
                      </a:cubicBezTo>
                      <a:cubicBezTo>
                        <a:pt x="377" y="1713"/>
                        <a:pt x="430" y="1738"/>
                        <a:pt x="490" y="1760"/>
                      </a:cubicBezTo>
                      <a:cubicBezTo>
                        <a:pt x="550" y="1782"/>
                        <a:pt x="602" y="1775"/>
                        <a:pt x="710" y="1800"/>
                      </a:cubicBezTo>
                      <a:cubicBezTo>
                        <a:pt x="818" y="1825"/>
                        <a:pt x="1032" y="1853"/>
                        <a:pt x="1140" y="1910"/>
                      </a:cubicBezTo>
                      <a:cubicBezTo>
                        <a:pt x="1248" y="1967"/>
                        <a:pt x="1310" y="2012"/>
                        <a:pt x="1360" y="2140"/>
                      </a:cubicBezTo>
                      <a:cubicBezTo>
                        <a:pt x="1410" y="2268"/>
                        <a:pt x="1430" y="2453"/>
                        <a:pt x="1440" y="2680"/>
                      </a:cubicBezTo>
                      <a:cubicBezTo>
                        <a:pt x="1450" y="2907"/>
                        <a:pt x="1425" y="3323"/>
                        <a:pt x="1420" y="3500"/>
                      </a:cubicBezTo>
                      <a:cubicBezTo>
                        <a:pt x="1415" y="3677"/>
                        <a:pt x="1433" y="3683"/>
                        <a:pt x="1410" y="3740"/>
                      </a:cubicBezTo>
                      <a:cubicBezTo>
                        <a:pt x="1387" y="3797"/>
                        <a:pt x="1328" y="3823"/>
                        <a:pt x="1280" y="3840"/>
                      </a:cubicBezTo>
                      <a:cubicBezTo>
                        <a:pt x="1232" y="3857"/>
                        <a:pt x="1152" y="3862"/>
                        <a:pt x="1120" y="3840"/>
                      </a:cubicBezTo>
                      <a:cubicBezTo>
                        <a:pt x="1088" y="3818"/>
                        <a:pt x="1105" y="3815"/>
                        <a:pt x="1090" y="3710"/>
                      </a:cubicBezTo>
                      <a:cubicBezTo>
                        <a:pt x="1075" y="3605"/>
                        <a:pt x="1048" y="3373"/>
                        <a:pt x="1030" y="3210"/>
                      </a:cubicBezTo>
                      <a:cubicBezTo>
                        <a:pt x="1012" y="3047"/>
                        <a:pt x="998" y="2835"/>
                        <a:pt x="980" y="2730"/>
                      </a:cubicBezTo>
                      <a:cubicBezTo>
                        <a:pt x="962" y="2625"/>
                        <a:pt x="937" y="2563"/>
                        <a:pt x="920" y="2580"/>
                      </a:cubicBezTo>
                      <a:cubicBezTo>
                        <a:pt x="903" y="2597"/>
                        <a:pt x="887" y="2680"/>
                        <a:pt x="880" y="2830"/>
                      </a:cubicBezTo>
                      <a:cubicBezTo>
                        <a:pt x="873" y="2980"/>
                        <a:pt x="882" y="3257"/>
                        <a:pt x="880" y="3480"/>
                      </a:cubicBezTo>
                      <a:cubicBezTo>
                        <a:pt x="878" y="3703"/>
                        <a:pt x="873" y="3990"/>
                        <a:pt x="870" y="4170"/>
                      </a:cubicBezTo>
                      <a:cubicBezTo>
                        <a:pt x="867" y="4350"/>
                        <a:pt x="862" y="4458"/>
                        <a:pt x="860" y="4560"/>
                      </a:cubicBezTo>
                      <a:cubicBezTo>
                        <a:pt x="858" y="4662"/>
                        <a:pt x="868" y="4722"/>
                        <a:pt x="860" y="4780"/>
                      </a:cubicBezTo>
                      <a:cubicBezTo>
                        <a:pt x="852" y="4838"/>
                        <a:pt x="862" y="4880"/>
                        <a:pt x="810" y="4910"/>
                      </a:cubicBezTo>
                      <a:cubicBezTo>
                        <a:pt x="758" y="4940"/>
                        <a:pt x="647" y="4952"/>
                        <a:pt x="550" y="4960"/>
                      </a:cubicBezTo>
                      <a:cubicBezTo>
                        <a:pt x="453" y="4968"/>
                        <a:pt x="310" y="4958"/>
                        <a:pt x="230" y="4960"/>
                      </a:cubicBezTo>
                      <a:cubicBezTo>
                        <a:pt x="150" y="4962"/>
                        <a:pt x="110" y="4966"/>
                        <a:pt x="70" y="4970"/>
                      </a:cubicBezTo>
                    </a:path>
                  </a:pathLst>
                </a:custGeom>
                <a:solidFill>
                  <a:srgbClr val="ffcc99">
                    <a:alpha val="50000"/>
                  </a:srgbClr>
                </a:solidFill>
                <a:ln w="190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5911560" y="2057400"/>
                  <a:ext cx="1224000" cy="2903400"/>
                </a:xfrm>
                <a:custGeom>
                  <a:avLst/>
                  <a:gdLst/>
                  <a:ahLst/>
                  <a:rect l="l" t="t" r="r" b="b"/>
                  <a:pathLst>
                    <a:path w="1450" h="4970">
                      <a:moveTo>
                        <a:pt x="0" y="0"/>
                      </a:moveTo>
                      <a:cubicBezTo>
                        <a:pt x="58" y="4"/>
                        <a:pt x="117" y="8"/>
                        <a:pt x="170" y="20"/>
                      </a:cubicBezTo>
                      <a:cubicBezTo>
                        <a:pt x="223" y="32"/>
                        <a:pt x="265" y="42"/>
                        <a:pt x="320" y="70"/>
                      </a:cubicBezTo>
                      <a:cubicBezTo>
                        <a:pt x="375" y="98"/>
                        <a:pt x="452" y="137"/>
                        <a:pt x="500" y="190"/>
                      </a:cubicBezTo>
                      <a:cubicBezTo>
                        <a:pt x="548" y="243"/>
                        <a:pt x="580" y="337"/>
                        <a:pt x="610" y="390"/>
                      </a:cubicBezTo>
                      <a:cubicBezTo>
                        <a:pt x="640" y="443"/>
                        <a:pt x="667" y="470"/>
                        <a:pt x="680" y="510"/>
                      </a:cubicBezTo>
                      <a:cubicBezTo>
                        <a:pt x="693" y="550"/>
                        <a:pt x="693" y="573"/>
                        <a:pt x="690" y="630"/>
                      </a:cubicBezTo>
                      <a:cubicBezTo>
                        <a:pt x="687" y="687"/>
                        <a:pt x="682" y="783"/>
                        <a:pt x="660" y="850"/>
                      </a:cubicBezTo>
                      <a:cubicBezTo>
                        <a:pt x="638" y="917"/>
                        <a:pt x="603" y="965"/>
                        <a:pt x="560" y="1030"/>
                      </a:cubicBezTo>
                      <a:cubicBezTo>
                        <a:pt x="517" y="1095"/>
                        <a:pt x="438" y="1162"/>
                        <a:pt x="400" y="1240"/>
                      </a:cubicBezTo>
                      <a:cubicBezTo>
                        <a:pt x="362" y="1318"/>
                        <a:pt x="338" y="1428"/>
                        <a:pt x="330" y="1500"/>
                      </a:cubicBezTo>
                      <a:cubicBezTo>
                        <a:pt x="322" y="1572"/>
                        <a:pt x="323" y="1627"/>
                        <a:pt x="350" y="1670"/>
                      </a:cubicBezTo>
                      <a:cubicBezTo>
                        <a:pt x="377" y="1713"/>
                        <a:pt x="430" y="1738"/>
                        <a:pt x="490" y="1760"/>
                      </a:cubicBezTo>
                      <a:cubicBezTo>
                        <a:pt x="550" y="1782"/>
                        <a:pt x="602" y="1775"/>
                        <a:pt x="710" y="1800"/>
                      </a:cubicBezTo>
                      <a:cubicBezTo>
                        <a:pt x="818" y="1825"/>
                        <a:pt x="1032" y="1853"/>
                        <a:pt x="1140" y="1910"/>
                      </a:cubicBezTo>
                      <a:cubicBezTo>
                        <a:pt x="1248" y="1967"/>
                        <a:pt x="1310" y="2012"/>
                        <a:pt x="1360" y="2140"/>
                      </a:cubicBezTo>
                      <a:cubicBezTo>
                        <a:pt x="1410" y="2268"/>
                        <a:pt x="1430" y="2453"/>
                        <a:pt x="1440" y="2680"/>
                      </a:cubicBezTo>
                      <a:cubicBezTo>
                        <a:pt x="1450" y="2907"/>
                        <a:pt x="1425" y="3323"/>
                        <a:pt x="1420" y="3500"/>
                      </a:cubicBezTo>
                      <a:cubicBezTo>
                        <a:pt x="1415" y="3677"/>
                        <a:pt x="1433" y="3683"/>
                        <a:pt x="1410" y="3740"/>
                      </a:cubicBezTo>
                      <a:cubicBezTo>
                        <a:pt x="1387" y="3797"/>
                        <a:pt x="1328" y="3823"/>
                        <a:pt x="1280" y="3840"/>
                      </a:cubicBezTo>
                      <a:cubicBezTo>
                        <a:pt x="1232" y="3857"/>
                        <a:pt x="1152" y="3862"/>
                        <a:pt x="1120" y="3840"/>
                      </a:cubicBezTo>
                      <a:cubicBezTo>
                        <a:pt x="1088" y="3818"/>
                        <a:pt x="1105" y="3815"/>
                        <a:pt x="1090" y="3710"/>
                      </a:cubicBezTo>
                      <a:cubicBezTo>
                        <a:pt x="1075" y="3605"/>
                        <a:pt x="1048" y="3373"/>
                        <a:pt x="1030" y="3210"/>
                      </a:cubicBezTo>
                      <a:cubicBezTo>
                        <a:pt x="1012" y="3047"/>
                        <a:pt x="998" y="2835"/>
                        <a:pt x="980" y="2730"/>
                      </a:cubicBezTo>
                      <a:cubicBezTo>
                        <a:pt x="962" y="2625"/>
                        <a:pt x="937" y="2563"/>
                        <a:pt x="920" y="2580"/>
                      </a:cubicBezTo>
                      <a:cubicBezTo>
                        <a:pt x="903" y="2597"/>
                        <a:pt x="887" y="2680"/>
                        <a:pt x="880" y="2830"/>
                      </a:cubicBezTo>
                      <a:cubicBezTo>
                        <a:pt x="873" y="2980"/>
                        <a:pt x="882" y="3257"/>
                        <a:pt x="880" y="3480"/>
                      </a:cubicBezTo>
                      <a:cubicBezTo>
                        <a:pt x="878" y="3703"/>
                        <a:pt x="873" y="3990"/>
                        <a:pt x="870" y="4170"/>
                      </a:cubicBezTo>
                      <a:cubicBezTo>
                        <a:pt x="867" y="4350"/>
                        <a:pt x="862" y="4458"/>
                        <a:pt x="860" y="4560"/>
                      </a:cubicBezTo>
                      <a:cubicBezTo>
                        <a:pt x="858" y="4662"/>
                        <a:pt x="868" y="4722"/>
                        <a:pt x="860" y="4780"/>
                      </a:cubicBezTo>
                      <a:cubicBezTo>
                        <a:pt x="852" y="4838"/>
                        <a:pt x="862" y="4880"/>
                        <a:pt x="810" y="4910"/>
                      </a:cubicBezTo>
                      <a:cubicBezTo>
                        <a:pt x="758" y="4940"/>
                        <a:pt x="647" y="4952"/>
                        <a:pt x="550" y="4960"/>
                      </a:cubicBezTo>
                      <a:cubicBezTo>
                        <a:pt x="453" y="4968"/>
                        <a:pt x="310" y="4958"/>
                        <a:pt x="230" y="4960"/>
                      </a:cubicBezTo>
                      <a:cubicBezTo>
                        <a:pt x="150" y="4962"/>
                        <a:pt x="110" y="4966"/>
                        <a:pt x="70" y="4970"/>
                      </a:cubicBezTo>
                    </a:path>
                  </a:pathLst>
                </a:custGeom>
                <a:solidFill>
                  <a:srgbClr val="ffcc99">
                    <a:alpha val="50000"/>
                  </a:srgbClr>
                </a:solidFill>
                <a:ln w="190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683040" y="4941720"/>
                <a:ext cx="779760" cy="38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rot="21271200">
              <a:off x="4080240" y="4125960"/>
              <a:ext cx="51840" cy="845640"/>
            </a:xfrm>
            <a:prstGeom prst="can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3760" y="4391640"/>
              <a:ext cx="572760" cy="613440"/>
            </a:xfrm>
            <a:custGeom>
              <a:avLst/>
              <a:gdLst>
                <a:gd name="textAreaLeft" fmla="*/ 126000 w 572760"/>
                <a:gd name="textAreaRight" fmla="*/ 446760 w 572760"/>
                <a:gd name="textAreaTop" fmla="*/ 134640 h 613440"/>
                <a:gd name="textAreaBottom" fmla="*/ 478800 h 6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336560" y="4337280"/>
              <a:ext cx="1000080" cy="462240"/>
              <a:chOff x="4336560" y="4337280"/>
              <a:chExt cx="1000080" cy="462240"/>
            </a:xfrm>
          </p:grpSpPr>
          <p:sp>
            <p:nvSpPr>
              <p:cNvPr id="80" name=""/>
              <p:cNvSpPr/>
              <p:nvPr/>
            </p:nvSpPr>
            <p:spPr>
              <a:xfrm rot="2700000">
                <a:off x="4557240" y="4565880"/>
                <a:ext cx="154800" cy="20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700000">
                <a:off x="4387320" y="4565520"/>
                <a:ext cx="154800" cy="20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0000">
                <a:off x="4728960" y="4565160"/>
                <a:ext cx="154800" cy="20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0000">
                <a:off x="4900320" y="4565160"/>
                <a:ext cx="154800" cy="20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2700000">
                <a:off x="5071680" y="4565160"/>
                <a:ext cx="154800" cy="20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2700000">
                <a:off x="4791240" y="4361040"/>
                <a:ext cx="154800" cy="20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2700000">
                <a:off x="4960800" y="4361400"/>
                <a:ext cx="154800" cy="20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700000">
                <a:off x="5130720" y="4361400"/>
                <a:ext cx="154800" cy="20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2700000">
                <a:off x="4622040" y="4361400"/>
                <a:ext cx="154800" cy="20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2700000">
                <a:off x="4453200" y="4361400"/>
                <a:ext cx="154800" cy="20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228920" y="4746600"/>
              <a:ext cx="1717920" cy="393120"/>
              <a:chOff x="4228920" y="4746600"/>
              <a:chExt cx="1717920" cy="3931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4329720" y="4850280"/>
                <a:ext cx="1617120" cy="289440"/>
                <a:chOff x="4329720" y="4850280"/>
                <a:chExt cx="1617120" cy="289440"/>
              </a:xfrm>
            </p:grpSpPr>
            <p:sp>
              <p:nvSpPr>
                <p:cNvPr id="92" name=""/>
                <p:cNvSpPr/>
                <p:nvPr/>
              </p:nvSpPr>
              <p:spPr>
                <a:xfrm flipH="1" rot="19014600">
                  <a:off x="5712840" y="4934520"/>
                  <a:ext cx="20880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 rot="19014600">
                  <a:off x="5608080" y="493164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 rot="19014600">
                  <a:off x="5503320" y="4928760"/>
                  <a:ext cx="20880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 rot="19014600">
                  <a:off x="5398560" y="4926240"/>
                  <a:ext cx="20880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19014600">
                  <a:off x="5294520" y="4923360"/>
                  <a:ext cx="20880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19014600">
                  <a:off x="5190120" y="492084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19014600">
                  <a:off x="5085720" y="4918680"/>
                  <a:ext cx="20880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rot="19014600">
                  <a:off x="4981320" y="491580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rot="19014600">
                  <a:off x="4876560" y="4913280"/>
                  <a:ext cx="20880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9014600">
                  <a:off x="4772520" y="4910400"/>
                  <a:ext cx="20880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rot="19014600">
                  <a:off x="4667760" y="490824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rot="19014600">
                  <a:off x="4563000" y="4905720"/>
                  <a:ext cx="20880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rot="19014600">
                  <a:off x="4458240" y="4902840"/>
                  <a:ext cx="20880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19014600">
                  <a:off x="4353840" y="490032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228920" y="4746600"/>
                <a:ext cx="1616760" cy="289800"/>
                <a:chOff x="4228920" y="4746600"/>
                <a:chExt cx="1616760" cy="289800"/>
              </a:xfrm>
            </p:grpSpPr>
            <p:sp>
              <p:nvSpPr>
                <p:cNvPr id="107" name=""/>
                <p:cNvSpPr/>
                <p:nvPr/>
              </p:nvSpPr>
              <p:spPr>
                <a:xfrm rot="2585400">
                  <a:off x="4253400" y="4831200"/>
                  <a:ext cx="20880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2585400">
                  <a:off x="4358160" y="4828320"/>
                  <a:ext cx="20880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2585400">
                  <a:off x="4463280" y="482544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2585400">
                  <a:off x="4567320" y="4822920"/>
                  <a:ext cx="20880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2585400">
                  <a:off x="4671360" y="4820400"/>
                  <a:ext cx="20880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2585400">
                  <a:off x="4776480" y="481716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2585400">
                  <a:off x="4880160" y="4814640"/>
                  <a:ext cx="20880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2585400">
                  <a:off x="4985280" y="481212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2585400">
                  <a:off x="5089680" y="4809960"/>
                  <a:ext cx="20880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2585400">
                  <a:off x="5193360" y="4807080"/>
                  <a:ext cx="20880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2585400">
                  <a:off x="5298480" y="4804560"/>
                  <a:ext cx="20880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2585400">
                  <a:off x="5403600" y="480204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2585400">
                  <a:off x="5507640" y="4799520"/>
                  <a:ext cx="20880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2585400">
                  <a:off x="5612760" y="4796640"/>
                  <a:ext cx="208080" cy="15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cffcc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7079760" y="4704480"/>
              <a:ext cx="263520" cy="922680"/>
            </a:xfrm>
            <a:custGeom>
              <a:avLst/>
              <a:gdLst/>
              <a:ahLst/>
              <a:rect l="l" t="t" r="r" b="b"/>
              <a:pathLst>
                <a:path w="360" h="1695">
                  <a:moveTo>
                    <a:pt x="68" y="0"/>
                  </a:moveTo>
                  <a:cubicBezTo>
                    <a:pt x="58" y="250"/>
                    <a:pt x="49" y="501"/>
                    <a:pt x="75" y="660"/>
                  </a:cubicBezTo>
                  <a:cubicBezTo>
                    <a:pt x="101" y="819"/>
                    <a:pt x="184" y="854"/>
                    <a:pt x="225" y="952"/>
                  </a:cubicBezTo>
                  <a:cubicBezTo>
                    <a:pt x="266" y="1050"/>
                    <a:pt x="360" y="1121"/>
                    <a:pt x="323" y="1245"/>
                  </a:cubicBezTo>
                  <a:cubicBezTo>
                    <a:pt x="286" y="1369"/>
                    <a:pt x="143" y="1532"/>
                    <a:pt x="0" y="169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6000" y="4704480"/>
              <a:ext cx="569880" cy="910440"/>
            </a:xfrm>
            <a:custGeom>
              <a:avLst/>
              <a:gdLst/>
              <a:ahLst/>
              <a:rect l="l" t="t" r="r" b="b"/>
              <a:pathLst>
                <a:path w="778" h="1672">
                  <a:moveTo>
                    <a:pt x="637" y="0"/>
                  </a:moveTo>
                  <a:cubicBezTo>
                    <a:pt x="628" y="201"/>
                    <a:pt x="620" y="403"/>
                    <a:pt x="630" y="540"/>
                  </a:cubicBezTo>
                  <a:cubicBezTo>
                    <a:pt x="640" y="677"/>
                    <a:pt x="673" y="751"/>
                    <a:pt x="697" y="825"/>
                  </a:cubicBezTo>
                  <a:cubicBezTo>
                    <a:pt x="721" y="899"/>
                    <a:pt x="766" y="937"/>
                    <a:pt x="772" y="982"/>
                  </a:cubicBezTo>
                  <a:cubicBezTo>
                    <a:pt x="778" y="1027"/>
                    <a:pt x="766" y="1054"/>
                    <a:pt x="735" y="1095"/>
                  </a:cubicBezTo>
                  <a:cubicBezTo>
                    <a:pt x="704" y="1136"/>
                    <a:pt x="707" y="1134"/>
                    <a:pt x="585" y="1230"/>
                  </a:cubicBezTo>
                  <a:cubicBezTo>
                    <a:pt x="463" y="1326"/>
                    <a:pt x="231" y="1499"/>
                    <a:pt x="0" y="167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50000" y="4708080"/>
              <a:ext cx="407880" cy="906840"/>
            </a:xfrm>
            <a:custGeom>
              <a:avLst/>
              <a:gdLst/>
              <a:ahLst/>
              <a:rect l="l" t="t" r="r" b="b"/>
              <a:pathLst>
                <a:path w="557" h="1665">
                  <a:moveTo>
                    <a:pt x="353" y="0"/>
                  </a:moveTo>
                  <a:cubicBezTo>
                    <a:pt x="343" y="249"/>
                    <a:pt x="334" y="498"/>
                    <a:pt x="360" y="660"/>
                  </a:cubicBezTo>
                  <a:cubicBezTo>
                    <a:pt x="386" y="822"/>
                    <a:pt x="484" y="890"/>
                    <a:pt x="510" y="975"/>
                  </a:cubicBezTo>
                  <a:cubicBezTo>
                    <a:pt x="536" y="1060"/>
                    <a:pt x="557" y="1099"/>
                    <a:pt x="518" y="1170"/>
                  </a:cubicBezTo>
                  <a:cubicBezTo>
                    <a:pt x="479" y="1241"/>
                    <a:pt x="364" y="1321"/>
                    <a:pt x="278" y="1403"/>
                  </a:cubicBezTo>
                  <a:cubicBezTo>
                    <a:pt x="192" y="1485"/>
                    <a:pt x="96" y="1575"/>
                    <a:pt x="0" y="166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79720" y="4708080"/>
              <a:ext cx="497160" cy="919080"/>
            </a:xfrm>
            <a:custGeom>
              <a:avLst/>
              <a:gdLst/>
              <a:ahLst/>
              <a:rect l="l" t="t" r="r" b="b"/>
              <a:pathLst>
                <a:path w="679" h="1688">
                  <a:moveTo>
                    <a:pt x="517" y="0"/>
                  </a:moveTo>
                  <a:cubicBezTo>
                    <a:pt x="510" y="102"/>
                    <a:pt x="504" y="204"/>
                    <a:pt x="502" y="308"/>
                  </a:cubicBezTo>
                  <a:cubicBezTo>
                    <a:pt x="500" y="412"/>
                    <a:pt x="487" y="532"/>
                    <a:pt x="502" y="623"/>
                  </a:cubicBezTo>
                  <a:cubicBezTo>
                    <a:pt x="517" y="714"/>
                    <a:pt x="563" y="791"/>
                    <a:pt x="592" y="855"/>
                  </a:cubicBezTo>
                  <a:cubicBezTo>
                    <a:pt x="621" y="919"/>
                    <a:pt x="671" y="953"/>
                    <a:pt x="675" y="1005"/>
                  </a:cubicBezTo>
                  <a:cubicBezTo>
                    <a:pt x="679" y="1057"/>
                    <a:pt x="659" y="1110"/>
                    <a:pt x="615" y="1170"/>
                  </a:cubicBezTo>
                  <a:cubicBezTo>
                    <a:pt x="571" y="1230"/>
                    <a:pt x="514" y="1279"/>
                    <a:pt x="412" y="1365"/>
                  </a:cubicBezTo>
                  <a:cubicBezTo>
                    <a:pt x="310" y="1451"/>
                    <a:pt x="155" y="1569"/>
                    <a:pt x="0" y="168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4880" y="4700160"/>
              <a:ext cx="324720" cy="919080"/>
            </a:xfrm>
            <a:custGeom>
              <a:avLst/>
              <a:gdLst/>
              <a:ahLst/>
              <a:rect l="l" t="t" r="r" b="b"/>
              <a:pathLst>
                <a:path w="444" h="1688">
                  <a:moveTo>
                    <a:pt x="210" y="0"/>
                  </a:moveTo>
                  <a:cubicBezTo>
                    <a:pt x="197" y="203"/>
                    <a:pt x="184" y="406"/>
                    <a:pt x="195" y="540"/>
                  </a:cubicBezTo>
                  <a:cubicBezTo>
                    <a:pt x="206" y="674"/>
                    <a:pt x="252" y="737"/>
                    <a:pt x="278" y="803"/>
                  </a:cubicBezTo>
                  <a:cubicBezTo>
                    <a:pt x="304" y="869"/>
                    <a:pt x="328" y="891"/>
                    <a:pt x="353" y="938"/>
                  </a:cubicBezTo>
                  <a:cubicBezTo>
                    <a:pt x="378" y="985"/>
                    <a:pt x="418" y="1041"/>
                    <a:pt x="428" y="1088"/>
                  </a:cubicBezTo>
                  <a:cubicBezTo>
                    <a:pt x="438" y="1135"/>
                    <a:pt x="444" y="1161"/>
                    <a:pt x="413" y="1223"/>
                  </a:cubicBezTo>
                  <a:cubicBezTo>
                    <a:pt x="382" y="1285"/>
                    <a:pt x="309" y="1386"/>
                    <a:pt x="240" y="1463"/>
                  </a:cubicBezTo>
                  <a:cubicBezTo>
                    <a:pt x="171" y="1540"/>
                    <a:pt x="85" y="1614"/>
                    <a:pt x="0" y="168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54920" y="4760640"/>
              <a:ext cx="1073880" cy="1065600"/>
            </a:xfrm>
            <a:custGeom>
              <a:avLst/>
              <a:gdLst/>
              <a:ahLst/>
              <a:rect l="l" t="t" r="r" b="b"/>
              <a:pathLst>
                <a:path w="1025" h="1470">
                  <a:moveTo>
                    <a:pt x="982" y="0"/>
                  </a:moveTo>
                  <a:cubicBezTo>
                    <a:pt x="1003" y="81"/>
                    <a:pt x="1025" y="162"/>
                    <a:pt x="1020" y="232"/>
                  </a:cubicBezTo>
                  <a:cubicBezTo>
                    <a:pt x="1015" y="302"/>
                    <a:pt x="1002" y="331"/>
                    <a:pt x="952" y="420"/>
                  </a:cubicBezTo>
                  <a:cubicBezTo>
                    <a:pt x="902" y="509"/>
                    <a:pt x="811" y="649"/>
                    <a:pt x="720" y="765"/>
                  </a:cubicBezTo>
                  <a:cubicBezTo>
                    <a:pt x="629" y="881"/>
                    <a:pt x="525" y="1000"/>
                    <a:pt x="405" y="1117"/>
                  </a:cubicBezTo>
                  <a:cubicBezTo>
                    <a:pt x="285" y="1234"/>
                    <a:pt x="142" y="1352"/>
                    <a:pt x="0" y="1470"/>
                  </a:cubicBezTo>
                </a:path>
              </a:pathLst>
            </a:custGeom>
            <a:noFill/>
            <a:ln w="1908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7699680" y="4639320"/>
              <a:ext cx="384480" cy="257400"/>
              <a:chOff x="7699680" y="4639320"/>
              <a:chExt cx="384480" cy="2574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699680" y="4639320"/>
                <a:ext cx="356400" cy="257400"/>
                <a:chOff x="7699680" y="4639320"/>
                <a:chExt cx="356400" cy="257400"/>
              </a:xfrm>
            </p:grpSpPr>
            <p:sp>
              <p:nvSpPr>
                <p:cNvPr id="129" name=""/>
                <p:cNvSpPr/>
                <p:nvPr/>
              </p:nvSpPr>
              <p:spPr>
                <a:xfrm flipH="1" rot="18923400">
                  <a:off x="7822800" y="4690080"/>
                  <a:ext cx="208080" cy="15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rot="18923400">
                  <a:off x="7773120" y="4690080"/>
                  <a:ext cx="208800" cy="15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rot="18923400">
                  <a:off x="7724160" y="4690080"/>
                  <a:ext cx="208080" cy="15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 flipH="1">
                <a:off x="7869600" y="4709160"/>
                <a:ext cx="214560" cy="13536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903480" y="4406040"/>
              <a:ext cx="538200" cy="140400"/>
            </a:xfrm>
            <a:custGeom>
              <a:avLst/>
              <a:gdLst/>
              <a:ahLst/>
              <a:rect l="l" t="t" r="r" b="b"/>
              <a:pathLst>
                <a:path w="735" h="86">
                  <a:moveTo>
                    <a:pt x="0" y="0"/>
                  </a:moveTo>
                  <a:cubicBezTo>
                    <a:pt x="6" y="22"/>
                    <a:pt x="12" y="44"/>
                    <a:pt x="39" y="57"/>
                  </a:cubicBezTo>
                  <a:cubicBezTo>
                    <a:pt x="66" y="70"/>
                    <a:pt x="79" y="74"/>
                    <a:pt x="162" y="78"/>
                  </a:cubicBezTo>
                  <a:cubicBezTo>
                    <a:pt x="245" y="82"/>
                    <a:pt x="453" y="80"/>
                    <a:pt x="540" y="81"/>
                  </a:cubicBezTo>
                  <a:cubicBezTo>
                    <a:pt x="627" y="82"/>
                    <a:pt x="652" y="86"/>
                    <a:pt x="684" y="81"/>
                  </a:cubicBezTo>
                  <a:cubicBezTo>
                    <a:pt x="716" y="76"/>
                    <a:pt x="727" y="56"/>
                    <a:pt x="735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94440" y="6215040"/>
              <a:ext cx="2780640" cy="312840"/>
            </a:xfrm>
            <a:custGeom>
              <a:avLst/>
              <a:gdLst/>
              <a:ahLst/>
              <a:rect l="l" t="t" r="r" b="b"/>
              <a:pathLst>
                <a:path w="2565" h="542">
                  <a:moveTo>
                    <a:pt x="0" y="308"/>
                  </a:moveTo>
                  <a:cubicBezTo>
                    <a:pt x="110" y="310"/>
                    <a:pt x="221" y="313"/>
                    <a:pt x="353" y="338"/>
                  </a:cubicBezTo>
                  <a:cubicBezTo>
                    <a:pt x="485" y="363"/>
                    <a:pt x="660" y="428"/>
                    <a:pt x="795" y="458"/>
                  </a:cubicBezTo>
                  <a:cubicBezTo>
                    <a:pt x="930" y="488"/>
                    <a:pt x="972" y="509"/>
                    <a:pt x="1163" y="518"/>
                  </a:cubicBezTo>
                  <a:cubicBezTo>
                    <a:pt x="1354" y="527"/>
                    <a:pt x="1746" y="542"/>
                    <a:pt x="1943" y="510"/>
                  </a:cubicBezTo>
                  <a:cubicBezTo>
                    <a:pt x="2140" y="478"/>
                    <a:pt x="2244" y="408"/>
                    <a:pt x="2348" y="323"/>
                  </a:cubicBezTo>
                  <a:cubicBezTo>
                    <a:pt x="2452" y="238"/>
                    <a:pt x="2508" y="119"/>
                    <a:pt x="2565" y="0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96880" y="4557600"/>
              <a:ext cx="1240200" cy="1740240"/>
            </a:xfrm>
            <a:custGeom>
              <a:avLst/>
              <a:gdLst/>
              <a:ahLst/>
              <a:rect l="l" t="t" r="r" b="b"/>
              <a:pathLst>
                <a:path w="1694" h="3196">
                  <a:moveTo>
                    <a:pt x="1215" y="15"/>
                  </a:moveTo>
                  <a:cubicBezTo>
                    <a:pt x="1277" y="7"/>
                    <a:pt x="1340" y="0"/>
                    <a:pt x="1387" y="7"/>
                  </a:cubicBezTo>
                  <a:cubicBezTo>
                    <a:pt x="1434" y="14"/>
                    <a:pt x="1466" y="25"/>
                    <a:pt x="1500" y="60"/>
                  </a:cubicBezTo>
                  <a:cubicBezTo>
                    <a:pt x="1534" y="95"/>
                    <a:pt x="1564" y="121"/>
                    <a:pt x="1590" y="217"/>
                  </a:cubicBezTo>
                  <a:cubicBezTo>
                    <a:pt x="1616" y="313"/>
                    <a:pt x="1644" y="437"/>
                    <a:pt x="1657" y="637"/>
                  </a:cubicBezTo>
                  <a:cubicBezTo>
                    <a:pt x="1670" y="837"/>
                    <a:pt x="1694" y="1232"/>
                    <a:pt x="1665" y="1417"/>
                  </a:cubicBezTo>
                  <a:cubicBezTo>
                    <a:pt x="1636" y="1602"/>
                    <a:pt x="1585" y="1616"/>
                    <a:pt x="1485" y="1747"/>
                  </a:cubicBezTo>
                  <a:cubicBezTo>
                    <a:pt x="1385" y="1878"/>
                    <a:pt x="1192" y="2069"/>
                    <a:pt x="1065" y="2205"/>
                  </a:cubicBezTo>
                  <a:cubicBezTo>
                    <a:pt x="938" y="2341"/>
                    <a:pt x="788" y="2469"/>
                    <a:pt x="720" y="2565"/>
                  </a:cubicBezTo>
                  <a:cubicBezTo>
                    <a:pt x="652" y="2661"/>
                    <a:pt x="678" y="2719"/>
                    <a:pt x="660" y="2782"/>
                  </a:cubicBezTo>
                  <a:cubicBezTo>
                    <a:pt x="642" y="2845"/>
                    <a:pt x="655" y="2880"/>
                    <a:pt x="615" y="2940"/>
                  </a:cubicBezTo>
                  <a:cubicBezTo>
                    <a:pt x="575" y="3000"/>
                    <a:pt x="485" y="3101"/>
                    <a:pt x="420" y="3142"/>
                  </a:cubicBezTo>
                  <a:cubicBezTo>
                    <a:pt x="355" y="3183"/>
                    <a:pt x="295" y="3178"/>
                    <a:pt x="225" y="3187"/>
                  </a:cubicBezTo>
                  <a:cubicBezTo>
                    <a:pt x="155" y="3196"/>
                    <a:pt x="77" y="3195"/>
                    <a:pt x="0" y="3195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aptop"/>
            <p:cNvSpPr/>
            <p:nvPr/>
          </p:nvSpPr>
          <p:spPr>
            <a:xfrm>
              <a:off x="3352680" y="5447160"/>
              <a:ext cx="1922040" cy="1076400"/>
            </a:xfrm>
            <a:prstGeom prst="pi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382720" y="4384800"/>
              <a:ext cx="609840" cy="362520"/>
              <a:chOff x="5382720" y="4384800"/>
              <a:chExt cx="609840" cy="3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5539680" y="4428000"/>
                <a:ext cx="452880" cy="2761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5279760" y="4487400"/>
                <a:ext cx="362520" cy="156960"/>
              </a:xfrm>
              <a:custGeom>
                <a:avLst/>
                <a:gdLst>
                  <a:gd name="textAreaLeft" fmla="*/ 78840 w 362520"/>
                  <a:gd name="textAreaRight" fmla="*/ 283680 w 362520"/>
                  <a:gd name="textAreaTop" fmla="*/ 34200 h 156960"/>
                  <a:gd name="textAreaBottom" fmla="*/ 12276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75" y="21600"/>
                    </a:lnTo>
                    <a:lnTo>
                      <a:pt x="5325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435640" y="3849480"/>
              <a:ext cx="287640" cy="204480"/>
            </a:xfrm>
            <a:prstGeom prst="wedgeRectCallout">
              <a:avLst>
                <a:gd name="adj1" fmla="val 121754"/>
                <a:gd name="adj2" fmla="val 289199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32520" y="5434200"/>
              <a:ext cx="287640" cy="203760"/>
            </a:xfrm>
            <a:prstGeom prst="wedgeRectCallout">
              <a:avLst>
                <a:gd name="adj1" fmla="val -114884"/>
                <a:gd name="adj2" fmla="val 165199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960" y="5126400"/>
              <a:ext cx="287640" cy="203760"/>
            </a:xfrm>
            <a:prstGeom prst="wedgeRectCallout">
              <a:avLst>
                <a:gd name="adj1" fmla="val 86134"/>
                <a:gd name="adj2" fmla="val 24253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0920" y="4403880"/>
              <a:ext cx="288360" cy="204840"/>
            </a:xfrm>
            <a:prstGeom prst="wedgeRectCallout">
              <a:avLst>
                <a:gd name="adj1" fmla="val -20736"/>
                <a:gd name="adj2" fmla="val 14653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783480" y="4291200"/>
              <a:ext cx="440280" cy="451080"/>
              <a:chOff x="6783480" y="4291200"/>
              <a:chExt cx="440280" cy="451080"/>
            </a:xfrm>
          </p:grpSpPr>
          <p:sp>
            <p:nvSpPr>
              <p:cNvPr id="145" name=""/>
              <p:cNvSpPr/>
              <p:nvPr/>
            </p:nvSpPr>
            <p:spPr>
              <a:xfrm rot="16200000">
                <a:off x="6778080" y="4296600"/>
                <a:ext cx="451080" cy="44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6807960" y="4309560"/>
                <a:ext cx="391320" cy="414720"/>
                <a:chOff x="6807960" y="4309560"/>
                <a:chExt cx="391320" cy="414720"/>
              </a:xfrm>
            </p:grpSpPr>
            <p:sp>
              <p:nvSpPr>
                <p:cNvPr id="147" name=""/>
                <p:cNvSpPr/>
                <p:nvPr/>
              </p:nvSpPr>
              <p:spPr>
                <a:xfrm rot="16200000">
                  <a:off x="6816600" y="466380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16200000">
                  <a:off x="6816600" y="460332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16200000">
                  <a:off x="6816600" y="45428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16200000">
                  <a:off x="6816960" y="4482720"/>
                  <a:ext cx="5112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6200000">
                  <a:off x="6816600" y="442188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16200000">
                  <a:off x="6816600" y="43610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16200000">
                  <a:off x="6816600" y="430056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16200000">
                  <a:off x="6896880" y="466380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6200000">
                  <a:off x="6896880" y="460332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6200000">
                  <a:off x="6896880" y="45428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6200000">
                  <a:off x="6897240" y="4482720"/>
                  <a:ext cx="5112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6200000">
                  <a:off x="6896880" y="442188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6200000">
                  <a:off x="6896880" y="43610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6200000">
                  <a:off x="6896880" y="430056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6200000">
                  <a:off x="6977520" y="466380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6200000">
                  <a:off x="6977520" y="460332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16200000">
                  <a:off x="6977520" y="45428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6200000">
                  <a:off x="6977880" y="4482720"/>
                  <a:ext cx="5112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6200000">
                  <a:off x="6977520" y="442188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6200000">
                  <a:off x="6977520" y="43610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6200000">
                  <a:off x="6977520" y="430056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6200000">
                  <a:off x="7058160" y="466380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6200000">
                  <a:off x="7058160" y="460332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6200000">
                  <a:off x="7058160" y="45428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6200000">
                  <a:off x="7058520" y="4482720"/>
                  <a:ext cx="5112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6200000">
                  <a:off x="7058160" y="442188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16200000">
                  <a:off x="7058160" y="43610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6200000">
                  <a:off x="7058160" y="430056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6200000">
                  <a:off x="7138800" y="466380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6200000">
                  <a:off x="7138800" y="460332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7138800" y="45428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6200000">
                  <a:off x="7139160" y="4482720"/>
                  <a:ext cx="5112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6200000">
                  <a:off x="7138800" y="442188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6200000">
                  <a:off x="7138800" y="436104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6200000">
                  <a:off x="7138800" y="4300560"/>
                  <a:ext cx="51480" cy="69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7113960" y="3894840"/>
              <a:ext cx="287640" cy="203760"/>
            </a:xfrm>
            <a:prstGeom prst="wedgeRectCallout">
              <a:avLst>
                <a:gd name="adj1" fmla="val -71629"/>
                <a:gd name="adj2" fmla="val 17053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7000" y="4927320"/>
              <a:ext cx="1186560" cy="1470600"/>
            </a:xfrm>
            <a:custGeom>
              <a:avLst/>
              <a:gdLst/>
              <a:ahLst/>
              <a:rect l="l" t="t" r="r" b="b"/>
              <a:pathLst>
                <a:path w="1954" h="2777">
                  <a:moveTo>
                    <a:pt x="972" y="0"/>
                  </a:moveTo>
                  <a:cubicBezTo>
                    <a:pt x="1009" y="7"/>
                    <a:pt x="1046" y="14"/>
                    <a:pt x="1062" y="60"/>
                  </a:cubicBezTo>
                  <a:cubicBezTo>
                    <a:pt x="1078" y="106"/>
                    <a:pt x="1070" y="192"/>
                    <a:pt x="1069" y="277"/>
                  </a:cubicBezTo>
                  <a:cubicBezTo>
                    <a:pt x="1068" y="362"/>
                    <a:pt x="1083" y="482"/>
                    <a:pt x="1054" y="570"/>
                  </a:cubicBezTo>
                  <a:cubicBezTo>
                    <a:pt x="1025" y="658"/>
                    <a:pt x="1044" y="638"/>
                    <a:pt x="897" y="802"/>
                  </a:cubicBezTo>
                  <a:cubicBezTo>
                    <a:pt x="750" y="966"/>
                    <a:pt x="315" y="1356"/>
                    <a:pt x="169" y="1552"/>
                  </a:cubicBezTo>
                  <a:cubicBezTo>
                    <a:pt x="23" y="1748"/>
                    <a:pt x="38" y="1845"/>
                    <a:pt x="19" y="1980"/>
                  </a:cubicBezTo>
                  <a:cubicBezTo>
                    <a:pt x="0" y="2115"/>
                    <a:pt x="19" y="2258"/>
                    <a:pt x="57" y="2362"/>
                  </a:cubicBezTo>
                  <a:cubicBezTo>
                    <a:pt x="95" y="2466"/>
                    <a:pt x="105" y="2537"/>
                    <a:pt x="244" y="2602"/>
                  </a:cubicBezTo>
                  <a:cubicBezTo>
                    <a:pt x="383" y="2667"/>
                    <a:pt x="683" y="2727"/>
                    <a:pt x="889" y="2752"/>
                  </a:cubicBezTo>
                  <a:cubicBezTo>
                    <a:pt x="1095" y="2777"/>
                    <a:pt x="1328" y="2774"/>
                    <a:pt x="1482" y="2752"/>
                  </a:cubicBezTo>
                  <a:cubicBezTo>
                    <a:pt x="1636" y="2730"/>
                    <a:pt x="1733" y="2686"/>
                    <a:pt x="1812" y="2617"/>
                  </a:cubicBezTo>
                  <a:cubicBezTo>
                    <a:pt x="1891" y="2548"/>
                    <a:pt x="1922" y="2444"/>
                    <a:pt x="1954" y="2340"/>
                  </a:cubicBez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843880" y="4790880"/>
              <a:ext cx="292680" cy="311400"/>
              <a:chOff x="5843880" y="4790880"/>
              <a:chExt cx="292680" cy="311400"/>
            </a:xfrm>
          </p:grpSpPr>
          <p:sp>
            <p:nvSpPr>
              <p:cNvPr id="185" name=""/>
              <p:cNvSpPr/>
              <p:nvPr/>
            </p:nvSpPr>
            <p:spPr>
              <a:xfrm>
                <a:off x="5919120" y="4827960"/>
                <a:ext cx="217440" cy="23724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00000">
                <a:off x="5725800" y="4908960"/>
                <a:ext cx="311400" cy="75240"/>
              </a:xfrm>
              <a:custGeom>
                <a:avLst/>
                <a:gdLst>
                  <a:gd name="textAreaLeft" fmla="*/ 67680 w 311400"/>
                  <a:gd name="textAreaRight" fmla="*/ 243720 w 311400"/>
                  <a:gd name="textAreaTop" fmla="*/ 16200 h 75240"/>
                  <a:gd name="textAreaBottom" fmla="*/ 59040 h 7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75" y="21600"/>
                    </a:lnTo>
                    <a:lnTo>
                      <a:pt x="5325" y="21600"/>
                    </a:lnTo>
                    <a:close/>
                  </a:path>
                </a:pathLst>
              </a:cu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443920" y="5221440"/>
              <a:ext cx="288360" cy="208800"/>
            </a:xfrm>
            <a:prstGeom prst="wedgeRectCallout">
              <a:avLst>
                <a:gd name="adj1" fmla="val 170101"/>
                <a:gd name="adj2" fmla="val -1500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8201880" y="5990040"/>
              <a:ext cx="378360" cy="156600"/>
              <a:chOff x="8201880" y="5990040"/>
              <a:chExt cx="378360" cy="1566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8356680" y="5990040"/>
                <a:ext cx="223560" cy="35280"/>
                <a:chOff x="8356680" y="5990040"/>
                <a:chExt cx="223560" cy="35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8356680" y="5990040"/>
                  <a:ext cx="8604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425440" y="5990040"/>
                  <a:ext cx="8568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494200" y="5990040"/>
                  <a:ext cx="8604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8304840" y="6030360"/>
                <a:ext cx="223560" cy="35280"/>
                <a:chOff x="8304840" y="6030360"/>
                <a:chExt cx="223560" cy="352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8304840" y="6030360"/>
                  <a:ext cx="8604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373600" y="6030360"/>
                  <a:ext cx="8568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442360" y="6030360"/>
                  <a:ext cx="8604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8253360" y="6071040"/>
                <a:ext cx="223560" cy="35280"/>
                <a:chOff x="8253360" y="6071040"/>
                <a:chExt cx="223560" cy="352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8253360" y="6071040"/>
                  <a:ext cx="8604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322120" y="6071040"/>
                  <a:ext cx="8568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390880" y="6071040"/>
                  <a:ext cx="8604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8201880" y="6111360"/>
                <a:ext cx="223560" cy="35280"/>
                <a:chOff x="8201880" y="6111360"/>
                <a:chExt cx="223560" cy="35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8201880" y="6111360"/>
                  <a:ext cx="8604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270640" y="6111360"/>
                  <a:ext cx="8568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339400" y="6111360"/>
                  <a:ext cx="86040" cy="35280"/>
                </a:xfrm>
                <a:prstGeom prst="cube">
                  <a:avLst>
                    <a:gd name="adj" fmla="val 68421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8402400" y="5281560"/>
              <a:ext cx="288360" cy="204480"/>
            </a:xfrm>
            <a:prstGeom prst="wedgeRectCallout">
              <a:avLst>
                <a:gd name="adj1" fmla="val -20736"/>
                <a:gd name="adj2" fmla="val 14653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819520" cy="2387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3306600" cy="2595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410080" y="3505320"/>
            <a:ext cx="32004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oculos" descr=""/>
          <p:cNvPicPr/>
          <p:nvPr/>
        </p:nvPicPr>
        <p:blipFill>
          <a:blip r:embed="rId1"/>
          <a:stretch/>
        </p:blipFill>
        <p:spPr>
          <a:xfrm>
            <a:off x="2076480" y="1023840"/>
            <a:ext cx="615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ab de sistemas embarcados: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croprocessadores: 8051, AVR, 68HC11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DSP: 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xas: TMS320C30, C24, C55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torola: DSP56000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Dispositivos programáveis: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era: Max, Flex, Excalibu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Xilinx: em negociaçã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laboração c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CDB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g.Sanitária e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r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noaudiologia, Fisioterapi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I – U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CMC - U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ESP – Ilha Solt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sas de automação de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projetos (de professores ou orientados) pro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 microprocessado para auxilio à mobilidade de cegos, usando eletroestimulação e processamento de imag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desenvolv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taforma de força para medir força de reação do solo para biomecânica (em ed.fisica, fisioterapia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didor de distância por ultrasom, microproces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o móvel de pequenas dimensões para competições de robo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tomação de uma máquina embaladora, originalmente mecânica, usando sensores, atuadores e C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íveis áreas de atu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s microprocessados em g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ação, telemetria, teleco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otização de movi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amentos médicos, para fonoaudiologia, para educação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ção de semáforos, industrial, de máquinas agrícolas, rastreamento de gado, agricultura de precisã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at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g.Mauro Pereir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uro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@ucdb.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67) 312-352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67) 9981-7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nterior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taforma de for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tu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to re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o: equipamento para tratamento de disfon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tebol de robô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PU em FP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omação de estufas (casa de veget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ojeto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lataforma de forç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TCC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: Markus Reichel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r strain gages para medir força 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ção do solo para uso em biomecânica (fisioterapia, TO, educação física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falta fazer load cell para medir em 3 dire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imultane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4724280"/>
            <a:ext cx="2057400" cy="183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4724280"/>
            <a:ext cx="20764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O: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ROCESSAMENTO DO SINAL ACUSTICO PARA CORREÇÃO DE DISTURBIOS DE F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 processamento digital de áudio para tratamento de disfonias (gagueira), em PC (placa de som) e DSP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ncípios: delays, ruídos, filtr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ordenadora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eria G.Du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quisadore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ndra C.Prudente, Mauro C. Pereira, Wanderlei Mendes Fer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no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ange H.Cavalcante (F), Marcia L.S.Toda(F), Neide G.P.Marques(F), Jadson Justi (F),Roverto H.R.Viana (EC)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exangelo A Dembogurski (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PU Didática com FPGAs e seu uso em cursos de engenha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mento de CPU didática em circuitos reconfiguráveis, e posteriores ferramentas de software (SO, assembler, etc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ordenador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uro C.Per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squisadore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scila Moraes, Edson Antonio Batista, Alexandre Cesar Rodrigues Costa (Unesp), Eduardo Marques(ICMC), Fabrizio Leonardi(FEI), Amaury Castro J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un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FUTEBOL DE ROBÔ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(grupo de estu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inuação de TCC para criar equipe de futebol de robôs da UCDB, envolvendo aspectos de hardware (mecânica, eletrica de controle, de acionamento, de comunicação de RF, captura de imagens, iluminação...) e software  (processamento de imagem para localização de jogadores e bola, e de estratégias de jo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ordenador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uro C. Per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squisadore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anderlei M. Ferreira, Edson A.Batista, Gedson Faria, Priscila Martins, Amaury Castro Jr, Priscila Mora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unos:grupo aind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form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668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ransmision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843600" cy="2971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gura tipica de futebol de robo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UTOMAÇÃO DE PRODUÇÃO DE MU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alação de sensores, rede de comunicação e atuadores para automação de operações de produção de mudas, em jardim clonal, casa de vegetação e quadras de maturação. Também supervisório e equipamentos para aquisição de dados para controle de produção por l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de luminosidade, temperatura, umidade, através de atuação em tela de cobertura, janelas, asper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squisadore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uro C. Pereira,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anderlei M. Ferreira, Edson A.Batista, Pedro Bastos, Jenner L.P.Ferr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azo: 40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ATO REMOTO: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ubstituição sensorial para auxílio à mobilidade de  deficientes visuais via processamento de imagens e eletro-estimulação cutâ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ia de sistema, envolvendo miniaturização, uso de DSP, interfaceamento de CCD a processador,  melhoria de sw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Projeto envolv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eletrônica digital, analógica (tiristores), microcontroladores, processamento de imagem, ultra-som, fisiologia, neuroci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ordenador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uro C.Pe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quisadore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ad Kassab Jr (POLI), Albert Schiavetto (Fisio), Wanderlei M.Ferreira, Edson A. Batista, Alexandre Cesar Rodrigues Costa (Une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uno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: Anibal C.Montanari Jr, Nadya Kaleche, Eduardo B.Moreira, Thiller F.Dalacosta; EC: Bruno Benante;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sio: Daniel M. Fr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12:04:24Z</dcterms:created>
  <dc:creator>UCDB UCDB</dc:creator>
  <dc:description/>
  <dc:language>en-US</dc:language>
  <cp:lastModifiedBy>X X</cp:lastModifiedBy>
  <dcterms:modified xsi:type="dcterms:W3CDTF">2005-07-04T07:17:06Z</dcterms:modified>
  <cp:revision>27</cp:revision>
  <dc:subject/>
  <dc:title>Engenharia Mecatrônica – UCDB</dc:title>
</cp:coreProperties>
</file>