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30.png" ContentType="image/png"/>
  <Override PartName="/ppt/media/image8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wmf" ContentType="image/x-wmf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BFF-2AC3-462E-AFFE-05C4D468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7F4-0EC2-4533-B6BD-A8C35C43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890-2754-4C53-9393-628B5E99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256-448C-4913-884A-473664DF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D8FB-0BA2-4903-8039-F8A9E751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82FA-73E1-4702-B3DC-D6612039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004C-959A-46C3-BE23-6D909A9F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F27F-6240-424D-B338-B2687144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A96E-554F-4CA8-9F21-98D41666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91C8-8C41-4C42-9F0C-95B404B1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1BC3-84E9-4975-893D-1437F00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493-D45E-42F0-9C15-BAA573CE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602D-A1B7-4321-88D5-CB53B3F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DA39-2BC0-4424-9879-340A8E2A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B6C9-ACC5-4A02-A755-8E12E386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5C2E-35E4-4D1F-B80F-FCB977F8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EB29-9304-42AB-B6CE-07452BF1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E71-1034-4E7F-846C-3B9526F7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ED9-B089-448B-9CA2-4CA27B5E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7C1-37EE-4700-9829-B3606F3B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AB0-E585-43EB-A1C7-3D07692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893-4685-4A15-8135-D197C346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065-ABEC-4766-B2FE-CD7952C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0FE-CE34-4A63-A97D-87DC0A39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2A21-DD7C-47E6-82BB-9256E1358C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ED6E-681C-47EB-8507-8A5B9E74FA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bstituição sensorial para auxílio à mobilidade de  deficientes visuais via processamento de imagens e eletro-estimulação cutânea</a:t>
            </a:r>
            <a:br>
              <a:rPr sz="2800"/>
            </a:br>
            <a:br>
              <a:rPr sz="28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uro Conti Pereira – LAC - USP / UCDB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ad Kassab Jr – LAC - USP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berto Cliquet Jr - LabCiber – USP São Carlo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1992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761760" cy="56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631800" cy="704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logo_ucdb2003" descr=""/>
          <p:cNvPicPr/>
          <p:nvPr/>
        </p:nvPicPr>
        <p:blipFill>
          <a:blip r:embed="rId4"/>
          <a:stretch/>
        </p:blipFill>
        <p:spPr>
          <a:xfrm>
            <a:off x="1447920" y="1295280"/>
            <a:ext cx="73720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ção geral do projeto 1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câmera – para capturar imag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.microcomputador – para processar a imag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.Kit de microcontrolador: controla quais eletrodos ativ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.circuitos de estimulaç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otherboar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com fonte e configur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   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lacas de chaveamento e estimulação por colu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laca de conversão do sinal de ultra-som para emitir vibraçã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5.Matriz de eletro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6.sensor de ultra-som – para definir distânc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7. Vibrador proporcional à distâ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ção geral do projeto 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90920" y="533520"/>
            <a:ext cx="6553080" cy="5308560"/>
            <a:chOff x="2590920" y="533520"/>
            <a:chExt cx="6553080" cy="5308560"/>
          </a:xfrm>
        </p:grpSpPr>
        <p:sp>
          <p:nvSpPr>
            <p:cNvPr id="125" name=""/>
            <p:cNvSpPr/>
            <p:nvPr/>
          </p:nvSpPr>
          <p:spPr>
            <a:xfrm>
              <a:off x="7125480" y="5455080"/>
              <a:ext cx="621360" cy="0"/>
            </a:xfrm>
            <a:prstGeom prst="line">
              <a:avLst/>
            </a:prstGeom>
            <a:ln w="763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10000" y="4879800"/>
              <a:ext cx="2691360" cy="669240"/>
            </a:xfrm>
            <a:prstGeom prst="parallelogram">
              <a:avLst>
                <a:gd name="adj" fmla="val 13920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46840" y="5033160"/>
              <a:ext cx="1397160" cy="538560"/>
            </a:xfrm>
            <a:prstGeom prst="cube">
              <a:avLst>
                <a:gd name="adj" fmla="val 7118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16200000">
              <a:off x="5482440" y="4710240"/>
              <a:ext cx="839520" cy="724680"/>
            </a:xfrm>
            <a:prstGeom prst="parallelogram">
              <a:avLst>
                <a:gd name="adj" fmla="val 7363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16200000">
              <a:off x="5676840" y="4710240"/>
              <a:ext cx="839520" cy="724680"/>
            </a:xfrm>
            <a:prstGeom prst="parallelogram">
              <a:avLst>
                <a:gd name="adj" fmla="val 7363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6200000">
              <a:off x="5870880" y="4710240"/>
              <a:ext cx="839520" cy="724680"/>
            </a:xfrm>
            <a:prstGeom prst="parallelogram">
              <a:avLst>
                <a:gd name="adj" fmla="val 7363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16200000">
              <a:off x="6064560" y="4710600"/>
              <a:ext cx="839520" cy="723960"/>
            </a:xfrm>
            <a:prstGeom prst="parallelogram">
              <a:avLst>
                <a:gd name="adj" fmla="val 7371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6200000">
              <a:off x="6258960" y="4710600"/>
              <a:ext cx="839520" cy="723960"/>
            </a:xfrm>
            <a:prstGeom prst="parallelogram">
              <a:avLst>
                <a:gd name="adj" fmla="val 7371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16200000">
              <a:off x="6426000" y="4946760"/>
              <a:ext cx="587160" cy="465120"/>
            </a:xfrm>
            <a:prstGeom prst="parallelogram">
              <a:avLst>
                <a:gd name="adj" fmla="val 69513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69120" y="5051160"/>
              <a:ext cx="776520" cy="135000"/>
            </a:xfrm>
            <a:prstGeom prst="cube">
              <a:avLst>
                <a:gd name="adj" fmla="val 6842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605200" y="533520"/>
              <a:ext cx="2736000" cy="3470400"/>
              <a:chOff x="5605200" y="533520"/>
              <a:chExt cx="2736000" cy="34704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5605200" y="533520"/>
                <a:ext cx="2736000" cy="3447000"/>
                <a:chOff x="5605200" y="533520"/>
                <a:chExt cx="2736000" cy="34470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899040" y="533520"/>
                  <a:ext cx="1442160" cy="3447000"/>
                </a:xfrm>
                <a:custGeom>
                  <a:avLst/>
                  <a:gdLst/>
                  <a:ahLst/>
                  <a:rect l="l" t="t" r="r" b="b"/>
                  <a:pathLst>
                    <a:path w="1450" h="4970">
                      <a:moveTo>
                        <a:pt x="0" y="0"/>
                      </a:moveTo>
                      <a:cubicBezTo>
                        <a:pt x="58" y="4"/>
                        <a:pt x="117" y="8"/>
                        <a:pt x="170" y="20"/>
                      </a:cubicBezTo>
                      <a:cubicBezTo>
                        <a:pt x="223" y="32"/>
                        <a:pt x="265" y="42"/>
                        <a:pt x="320" y="70"/>
                      </a:cubicBezTo>
                      <a:cubicBezTo>
                        <a:pt x="375" y="98"/>
                        <a:pt x="452" y="137"/>
                        <a:pt x="500" y="190"/>
                      </a:cubicBezTo>
                      <a:cubicBezTo>
                        <a:pt x="548" y="243"/>
                        <a:pt x="580" y="337"/>
                        <a:pt x="610" y="390"/>
                      </a:cubicBezTo>
                      <a:cubicBezTo>
                        <a:pt x="640" y="443"/>
                        <a:pt x="667" y="470"/>
                        <a:pt x="680" y="510"/>
                      </a:cubicBezTo>
                      <a:cubicBezTo>
                        <a:pt x="693" y="550"/>
                        <a:pt x="693" y="573"/>
                        <a:pt x="690" y="630"/>
                      </a:cubicBezTo>
                      <a:cubicBezTo>
                        <a:pt x="687" y="687"/>
                        <a:pt x="682" y="783"/>
                        <a:pt x="660" y="850"/>
                      </a:cubicBezTo>
                      <a:cubicBezTo>
                        <a:pt x="638" y="917"/>
                        <a:pt x="603" y="965"/>
                        <a:pt x="560" y="1030"/>
                      </a:cubicBezTo>
                      <a:cubicBezTo>
                        <a:pt x="517" y="1095"/>
                        <a:pt x="438" y="1162"/>
                        <a:pt x="400" y="1240"/>
                      </a:cubicBezTo>
                      <a:cubicBezTo>
                        <a:pt x="362" y="1318"/>
                        <a:pt x="338" y="1428"/>
                        <a:pt x="330" y="1500"/>
                      </a:cubicBezTo>
                      <a:cubicBezTo>
                        <a:pt x="322" y="1572"/>
                        <a:pt x="323" y="1627"/>
                        <a:pt x="350" y="1670"/>
                      </a:cubicBezTo>
                      <a:cubicBezTo>
                        <a:pt x="377" y="1713"/>
                        <a:pt x="430" y="1738"/>
                        <a:pt x="490" y="1760"/>
                      </a:cubicBezTo>
                      <a:cubicBezTo>
                        <a:pt x="550" y="1782"/>
                        <a:pt x="602" y="1775"/>
                        <a:pt x="710" y="1800"/>
                      </a:cubicBezTo>
                      <a:cubicBezTo>
                        <a:pt x="818" y="1825"/>
                        <a:pt x="1032" y="1853"/>
                        <a:pt x="1140" y="1910"/>
                      </a:cubicBezTo>
                      <a:cubicBezTo>
                        <a:pt x="1248" y="1967"/>
                        <a:pt x="1310" y="2012"/>
                        <a:pt x="1360" y="2140"/>
                      </a:cubicBezTo>
                      <a:cubicBezTo>
                        <a:pt x="1410" y="2268"/>
                        <a:pt x="1430" y="2453"/>
                        <a:pt x="1440" y="2680"/>
                      </a:cubicBezTo>
                      <a:cubicBezTo>
                        <a:pt x="1450" y="2907"/>
                        <a:pt x="1425" y="3323"/>
                        <a:pt x="1420" y="3500"/>
                      </a:cubicBezTo>
                      <a:cubicBezTo>
                        <a:pt x="1415" y="3677"/>
                        <a:pt x="1433" y="3683"/>
                        <a:pt x="1410" y="3740"/>
                      </a:cubicBezTo>
                      <a:cubicBezTo>
                        <a:pt x="1387" y="3797"/>
                        <a:pt x="1328" y="3823"/>
                        <a:pt x="1280" y="3840"/>
                      </a:cubicBezTo>
                      <a:cubicBezTo>
                        <a:pt x="1232" y="3857"/>
                        <a:pt x="1152" y="3862"/>
                        <a:pt x="1120" y="3840"/>
                      </a:cubicBezTo>
                      <a:cubicBezTo>
                        <a:pt x="1088" y="3818"/>
                        <a:pt x="1105" y="3815"/>
                        <a:pt x="1090" y="3710"/>
                      </a:cubicBezTo>
                      <a:cubicBezTo>
                        <a:pt x="1075" y="3605"/>
                        <a:pt x="1048" y="3373"/>
                        <a:pt x="1030" y="3210"/>
                      </a:cubicBezTo>
                      <a:cubicBezTo>
                        <a:pt x="1012" y="3047"/>
                        <a:pt x="998" y="2835"/>
                        <a:pt x="980" y="2730"/>
                      </a:cubicBezTo>
                      <a:cubicBezTo>
                        <a:pt x="962" y="2625"/>
                        <a:pt x="937" y="2563"/>
                        <a:pt x="920" y="2580"/>
                      </a:cubicBezTo>
                      <a:cubicBezTo>
                        <a:pt x="903" y="2597"/>
                        <a:pt x="887" y="2680"/>
                        <a:pt x="880" y="2830"/>
                      </a:cubicBezTo>
                      <a:cubicBezTo>
                        <a:pt x="873" y="2980"/>
                        <a:pt x="882" y="3257"/>
                        <a:pt x="880" y="3480"/>
                      </a:cubicBezTo>
                      <a:cubicBezTo>
                        <a:pt x="878" y="3703"/>
                        <a:pt x="873" y="3990"/>
                        <a:pt x="870" y="4170"/>
                      </a:cubicBezTo>
                      <a:cubicBezTo>
                        <a:pt x="867" y="4350"/>
                        <a:pt x="862" y="4458"/>
                        <a:pt x="860" y="4560"/>
                      </a:cubicBezTo>
                      <a:cubicBezTo>
                        <a:pt x="858" y="4662"/>
                        <a:pt x="868" y="4722"/>
                        <a:pt x="860" y="4780"/>
                      </a:cubicBezTo>
                      <a:cubicBezTo>
                        <a:pt x="852" y="4838"/>
                        <a:pt x="862" y="4880"/>
                        <a:pt x="810" y="4910"/>
                      </a:cubicBezTo>
                      <a:cubicBezTo>
                        <a:pt x="758" y="4940"/>
                        <a:pt x="647" y="4952"/>
                        <a:pt x="550" y="4960"/>
                      </a:cubicBezTo>
                      <a:cubicBezTo>
                        <a:pt x="453" y="4968"/>
                        <a:pt x="310" y="4958"/>
                        <a:pt x="230" y="4960"/>
                      </a:cubicBezTo>
                      <a:cubicBezTo>
                        <a:pt x="150" y="4962"/>
                        <a:pt x="110" y="4966"/>
                        <a:pt x="70" y="4970"/>
                      </a:cubicBezTo>
                    </a:path>
                  </a:pathLst>
                </a:custGeom>
                <a:solidFill>
                  <a:srgbClr val="ffcc99">
                    <a:alpha val="50000"/>
                  </a:srgbClr>
                </a:solidFill>
                <a:ln w="190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605200" y="533520"/>
                  <a:ext cx="1442160" cy="3447000"/>
                </a:xfrm>
                <a:custGeom>
                  <a:avLst/>
                  <a:gdLst/>
                  <a:ahLst/>
                  <a:rect l="l" t="t" r="r" b="b"/>
                  <a:pathLst>
                    <a:path w="1450" h="4970">
                      <a:moveTo>
                        <a:pt x="0" y="0"/>
                      </a:moveTo>
                      <a:cubicBezTo>
                        <a:pt x="58" y="4"/>
                        <a:pt x="117" y="8"/>
                        <a:pt x="170" y="20"/>
                      </a:cubicBezTo>
                      <a:cubicBezTo>
                        <a:pt x="223" y="32"/>
                        <a:pt x="265" y="42"/>
                        <a:pt x="320" y="70"/>
                      </a:cubicBezTo>
                      <a:cubicBezTo>
                        <a:pt x="375" y="98"/>
                        <a:pt x="452" y="137"/>
                        <a:pt x="500" y="190"/>
                      </a:cubicBezTo>
                      <a:cubicBezTo>
                        <a:pt x="548" y="243"/>
                        <a:pt x="580" y="337"/>
                        <a:pt x="610" y="390"/>
                      </a:cubicBezTo>
                      <a:cubicBezTo>
                        <a:pt x="640" y="443"/>
                        <a:pt x="667" y="470"/>
                        <a:pt x="680" y="510"/>
                      </a:cubicBezTo>
                      <a:cubicBezTo>
                        <a:pt x="693" y="550"/>
                        <a:pt x="693" y="573"/>
                        <a:pt x="690" y="630"/>
                      </a:cubicBezTo>
                      <a:cubicBezTo>
                        <a:pt x="687" y="687"/>
                        <a:pt x="682" y="783"/>
                        <a:pt x="660" y="850"/>
                      </a:cubicBezTo>
                      <a:cubicBezTo>
                        <a:pt x="638" y="917"/>
                        <a:pt x="603" y="965"/>
                        <a:pt x="560" y="1030"/>
                      </a:cubicBezTo>
                      <a:cubicBezTo>
                        <a:pt x="517" y="1095"/>
                        <a:pt x="438" y="1162"/>
                        <a:pt x="400" y="1240"/>
                      </a:cubicBezTo>
                      <a:cubicBezTo>
                        <a:pt x="362" y="1318"/>
                        <a:pt x="338" y="1428"/>
                        <a:pt x="330" y="1500"/>
                      </a:cubicBezTo>
                      <a:cubicBezTo>
                        <a:pt x="322" y="1572"/>
                        <a:pt x="323" y="1627"/>
                        <a:pt x="350" y="1670"/>
                      </a:cubicBezTo>
                      <a:cubicBezTo>
                        <a:pt x="377" y="1713"/>
                        <a:pt x="430" y="1738"/>
                        <a:pt x="490" y="1760"/>
                      </a:cubicBezTo>
                      <a:cubicBezTo>
                        <a:pt x="550" y="1782"/>
                        <a:pt x="602" y="1775"/>
                        <a:pt x="710" y="1800"/>
                      </a:cubicBezTo>
                      <a:cubicBezTo>
                        <a:pt x="818" y="1825"/>
                        <a:pt x="1032" y="1853"/>
                        <a:pt x="1140" y="1910"/>
                      </a:cubicBezTo>
                      <a:cubicBezTo>
                        <a:pt x="1248" y="1967"/>
                        <a:pt x="1310" y="2012"/>
                        <a:pt x="1360" y="2140"/>
                      </a:cubicBezTo>
                      <a:cubicBezTo>
                        <a:pt x="1410" y="2268"/>
                        <a:pt x="1430" y="2453"/>
                        <a:pt x="1440" y="2680"/>
                      </a:cubicBezTo>
                      <a:cubicBezTo>
                        <a:pt x="1450" y="2907"/>
                        <a:pt x="1425" y="3323"/>
                        <a:pt x="1420" y="3500"/>
                      </a:cubicBezTo>
                      <a:cubicBezTo>
                        <a:pt x="1415" y="3677"/>
                        <a:pt x="1433" y="3683"/>
                        <a:pt x="1410" y="3740"/>
                      </a:cubicBezTo>
                      <a:cubicBezTo>
                        <a:pt x="1387" y="3797"/>
                        <a:pt x="1328" y="3823"/>
                        <a:pt x="1280" y="3840"/>
                      </a:cubicBezTo>
                      <a:cubicBezTo>
                        <a:pt x="1232" y="3857"/>
                        <a:pt x="1152" y="3862"/>
                        <a:pt x="1120" y="3840"/>
                      </a:cubicBezTo>
                      <a:cubicBezTo>
                        <a:pt x="1088" y="3818"/>
                        <a:pt x="1105" y="3815"/>
                        <a:pt x="1090" y="3710"/>
                      </a:cubicBezTo>
                      <a:cubicBezTo>
                        <a:pt x="1075" y="3605"/>
                        <a:pt x="1048" y="3373"/>
                        <a:pt x="1030" y="3210"/>
                      </a:cubicBezTo>
                      <a:cubicBezTo>
                        <a:pt x="1012" y="3047"/>
                        <a:pt x="998" y="2835"/>
                        <a:pt x="980" y="2730"/>
                      </a:cubicBezTo>
                      <a:cubicBezTo>
                        <a:pt x="962" y="2625"/>
                        <a:pt x="937" y="2563"/>
                        <a:pt x="920" y="2580"/>
                      </a:cubicBezTo>
                      <a:cubicBezTo>
                        <a:pt x="903" y="2597"/>
                        <a:pt x="887" y="2680"/>
                        <a:pt x="880" y="2830"/>
                      </a:cubicBezTo>
                      <a:cubicBezTo>
                        <a:pt x="873" y="2980"/>
                        <a:pt x="882" y="3257"/>
                        <a:pt x="880" y="3480"/>
                      </a:cubicBezTo>
                      <a:cubicBezTo>
                        <a:pt x="878" y="3703"/>
                        <a:pt x="873" y="3990"/>
                        <a:pt x="870" y="4170"/>
                      </a:cubicBezTo>
                      <a:cubicBezTo>
                        <a:pt x="867" y="4350"/>
                        <a:pt x="862" y="4458"/>
                        <a:pt x="860" y="4560"/>
                      </a:cubicBezTo>
                      <a:cubicBezTo>
                        <a:pt x="858" y="4662"/>
                        <a:pt x="868" y="4722"/>
                        <a:pt x="860" y="4780"/>
                      </a:cubicBezTo>
                      <a:cubicBezTo>
                        <a:pt x="852" y="4838"/>
                        <a:pt x="862" y="4880"/>
                        <a:pt x="810" y="4910"/>
                      </a:cubicBezTo>
                      <a:cubicBezTo>
                        <a:pt x="758" y="4940"/>
                        <a:pt x="647" y="4952"/>
                        <a:pt x="550" y="4960"/>
                      </a:cubicBezTo>
                      <a:cubicBezTo>
                        <a:pt x="453" y="4968"/>
                        <a:pt x="310" y="4958"/>
                        <a:pt x="230" y="4960"/>
                      </a:cubicBezTo>
                      <a:cubicBezTo>
                        <a:pt x="150" y="4962"/>
                        <a:pt x="110" y="4966"/>
                        <a:pt x="70" y="4970"/>
                      </a:cubicBezTo>
                    </a:path>
                  </a:pathLst>
                </a:custGeom>
                <a:solidFill>
                  <a:srgbClr val="ffcc99">
                    <a:alpha val="50000"/>
                  </a:srgbClr>
                </a:solidFill>
                <a:ln w="190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6514200" y="3958200"/>
                <a:ext cx="91872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rot="21271200">
              <a:off x="3448080" y="2989800"/>
              <a:ext cx="61200" cy="1004040"/>
            </a:xfrm>
            <a:prstGeom prst="can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28120" y="3305520"/>
              <a:ext cx="674640" cy="728280"/>
            </a:xfrm>
            <a:custGeom>
              <a:avLst/>
              <a:gdLst>
                <a:gd name="textAreaLeft" fmla="*/ 148320 w 674640"/>
                <a:gd name="textAreaRight" fmla="*/ 526320 w 674640"/>
                <a:gd name="textAreaTop" fmla="*/ 160200 h 728280"/>
                <a:gd name="textAreaBottom" fmla="*/ 568080 h 72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748680" y="3241080"/>
              <a:ext cx="1180080" cy="547200"/>
              <a:chOff x="3748680" y="3241080"/>
              <a:chExt cx="1180080" cy="547200"/>
            </a:xfrm>
          </p:grpSpPr>
          <p:sp>
            <p:nvSpPr>
              <p:cNvPr id="143" name=""/>
              <p:cNvSpPr/>
              <p:nvPr/>
            </p:nvSpPr>
            <p:spPr>
              <a:xfrm rot="2700000">
                <a:off x="4009320" y="3512880"/>
                <a:ext cx="18432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700000">
                <a:off x="3808440" y="3512160"/>
                <a:ext cx="18432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700000">
                <a:off x="4211280" y="3512160"/>
                <a:ext cx="18432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700000">
                <a:off x="4413240" y="3512160"/>
                <a:ext cx="18432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700000">
                <a:off x="4615200" y="3512160"/>
                <a:ext cx="18432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700000">
                <a:off x="4284720" y="3269880"/>
                <a:ext cx="18432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700000">
                <a:off x="4483800" y="3269880"/>
                <a:ext cx="18432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700000">
                <a:off x="4684320" y="3269880"/>
                <a:ext cx="18432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700000">
                <a:off x="4085640" y="3270960"/>
                <a:ext cx="18360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700000">
                <a:off x="3885840" y="3269880"/>
                <a:ext cx="184320" cy="24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622320" y="3728160"/>
              <a:ext cx="2025360" cy="465120"/>
              <a:chOff x="3622320" y="3728160"/>
              <a:chExt cx="2025360" cy="4651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3742200" y="3851280"/>
                <a:ext cx="1905480" cy="342000"/>
                <a:chOff x="3742200" y="3851280"/>
                <a:chExt cx="1905480" cy="342000"/>
              </a:xfrm>
            </p:grpSpPr>
            <p:sp>
              <p:nvSpPr>
                <p:cNvPr id="155" name=""/>
                <p:cNvSpPr/>
                <p:nvPr/>
              </p:nvSpPr>
              <p:spPr>
                <a:xfrm flipH="1" rot="19014600">
                  <a:off x="5372640" y="395064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 rot="19014600">
                  <a:off x="5249520" y="394740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rot="19014600">
                  <a:off x="5126040" y="394416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rot="19014600">
                  <a:off x="5002560" y="394092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rot="19014600">
                  <a:off x="4880160" y="393804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rot="19014600">
                  <a:off x="4756680" y="393480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19014600">
                  <a:off x="4634280" y="393192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rot="19014600">
                  <a:off x="4510800" y="392868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rot="19014600">
                  <a:off x="4387320" y="392544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rot="19014600">
                  <a:off x="4264920" y="392256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rot="19014600">
                  <a:off x="4141800" y="391968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19014600">
                  <a:off x="4018320" y="391644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rot="19014600">
                  <a:off x="3894840" y="391320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rot="19014600">
                  <a:off x="3771720" y="391032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622320" y="3728160"/>
                <a:ext cx="1906560" cy="341640"/>
                <a:chOff x="3622320" y="3728160"/>
                <a:chExt cx="1906560" cy="341640"/>
              </a:xfrm>
            </p:grpSpPr>
            <p:sp>
              <p:nvSpPr>
                <p:cNvPr id="170" name=""/>
                <p:cNvSpPr/>
                <p:nvPr/>
              </p:nvSpPr>
              <p:spPr>
                <a:xfrm rot="2585400">
                  <a:off x="3651840" y="382716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2585400">
                  <a:off x="3774960" y="382392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2585400">
                  <a:off x="3898440" y="382068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2585400">
                  <a:off x="4021920" y="381780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585400">
                  <a:off x="4144320" y="381456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585400">
                  <a:off x="4268160" y="3811320"/>
                  <a:ext cx="24552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2585400">
                  <a:off x="4390560" y="3808080"/>
                  <a:ext cx="24552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2585400">
                  <a:off x="4513680" y="380520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2585400">
                  <a:off x="4636800" y="380232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2585400">
                  <a:off x="4759200" y="379908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2585400">
                  <a:off x="4882680" y="3795840"/>
                  <a:ext cx="2455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585400">
                  <a:off x="5006520" y="3793320"/>
                  <a:ext cx="24552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585400">
                  <a:off x="5130000" y="3790080"/>
                  <a:ext cx="24552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2585400">
                  <a:off x="5253480" y="3787200"/>
                  <a:ext cx="24552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6981480" y="3677040"/>
              <a:ext cx="310320" cy="1095480"/>
            </a:xfrm>
            <a:custGeom>
              <a:avLst/>
              <a:gdLst/>
              <a:ahLst/>
              <a:rect l="l" t="t" r="r" b="b"/>
              <a:pathLst>
                <a:path w="360" h="1695">
                  <a:moveTo>
                    <a:pt x="68" y="0"/>
                  </a:moveTo>
                  <a:cubicBezTo>
                    <a:pt x="58" y="250"/>
                    <a:pt x="49" y="501"/>
                    <a:pt x="75" y="660"/>
                  </a:cubicBezTo>
                  <a:cubicBezTo>
                    <a:pt x="101" y="819"/>
                    <a:pt x="184" y="854"/>
                    <a:pt x="225" y="952"/>
                  </a:cubicBezTo>
                  <a:cubicBezTo>
                    <a:pt x="266" y="1050"/>
                    <a:pt x="360" y="1121"/>
                    <a:pt x="323" y="1245"/>
                  </a:cubicBezTo>
                  <a:cubicBezTo>
                    <a:pt x="286" y="1369"/>
                    <a:pt x="143" y="1532"/>
                    <a:pt x="0" y="169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11440" y="3677040"/>
              <a:ext cx="671400" cy="1081080"/>
            </a:xfrm>
            <a:custGeom>
              <a:avLst/>
              <a:gdLst/>
              <a:ahLst/>
              <a:rect l="l" t="t" r="r" b="b"/>
              <a:pathLst>
                <a:path w="778" h="1672">
                  <a:moveTo>
                    <a:pt x="637" y="0"/>
                  </a:moveTo>
                  <a:cubicBezTo>
                    <a:pt x="628" y="201"/>
                    <a:pt x="620" y="403"/>
                    <a:pt x="630" y="540"/>
                  </a:cubicBezTo>
                  <a:cubicBezTo>
                    <a:pt x="640" y="677"/>
                    <a:pt x="673" y="751"/>
                    <a:pt x="697" y="825"/>
                  </a:cubicBezTo>
                  <a:cubicBezTo>
                    <a:pt x="721" y="899"/>
                    <a:pt x="766" y="937"/>
                    <a:pt x="772" y="982"/>
                  </a:cubicBezTo>
                  <a:cubicBezTo>
                    <a:pt x="778" y="1027"/>
                    <a:pt x="766" y="1054"/>
                    <a:pt x="735" y="1095"/>
                  </a:cubicBezTo>
                  <a:cubicBezTo>
                    <a:pt x="704" y="1136"/>
                    <a:pt x="707" y="1134"/>
                    <a:pt x="585" y="1230"/>
                  </a:cubicBezTo>
                  <a:cubicBezTo>
                    <a:pt x="463" y="1326"/>
                    <a:pt x="231" y="1499"/>
                    <a:pt x="0" y="167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93040" y="3681360"/>
              <a:ext cx="480240" cy="1077120"/>
            </a:xfrm>
            <a:custGeom>
              <a:avLst/>
              <a:gdLst/>
              <a:ahLst/>
              <a:rect l="l" t="t" r="r" b="b"/>
              <a:pathLst>
                <a:path w="557" h="1665">
                  <a:moveTo>
                    <a:pt x="353" y="0"/>
                  </a:moveTo>
                  <a:cubicBezTo>
                    <a:pt x="343" y="249"/>
                    <a:pt x="334" y="498"/>
                    <a:pt x="360" y="660"/>
                  </a:cubicBezTo>
                  <a:cubicBezTo>
                    <a:pt x="386" y="822"/>
                    <a:pt x="484" y="890"/>
                    <a:pt x="510" y="975"/>
                  </a:cubicBezTo>
                  <a:cubicBezTo>
                    <a:pt x="536" y="1060"/>
                    <a:pt x="557" y="1099"/>
                    <a:pt x="518" y="1170"/>
                  </a:cubicBezTo>
                  <a:cubicBezTo>
                    <a:pt x="479" y="1241"/>
                    <a:pt x="364" y="1321"/>
                    <a:pt x="278" y="1403"/>
                  </a:cubicBezTo>
                  <a:cubicBezTo>
                    <a:pt x="192" y="1485"/>
                    <a:pt x="96" y="1575"/>
                    <a:pt x="0" y="166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92520" y="3681360"/>
              <a:ext cx="585720" cy="1091160"/>
            </a:xfrm>
            <a:custGeom>
              <a:avLst/>
              <a:gdLst/>
              <a:ahLst/>
              <a:rect l="l" t="t" r="r" b="b"/>
              <a:pathLst>
                <a:path w="679" h="1688">
                  <a:moveTo>
                    <a:pt x="517" y="0"/>
                  </a:moveTo>
                  <a:cubicBezTo>
                    <a:pt x="510" y="102"/>
                    <a:pt x="504" y="204"/>
                    <a:pt x="502" y="308"/>
                  </a:cubicBezTo>
                  <a:cubicBezTo>
                    <a:pt x="500" y="412"/>
                    <a:pt x="487" y="532"/>
                    <a:pt x="502" y="623"/>
                  </a:cubicBezTo>
                  <a:cubicBezTo>
                    <a:pt x="517" y="714"/>
                    <a:pt x="563" y="791"/>
                    <a:pt x="592" y="855"/>
                  </a:cubicBezTo>
                  <a:cubicBezTo>
                    <a:pt x="621" y="919"/>
                    <a:pt x="671" y="953"/>
                    <a:pt x="675" y="1005"/>
                  </a:cubicBezTo>
                  <a:cubicBezTo>
                    <a:pt x="679" y="1057"/>
                    <a:pt x="659" y="1110"/>
                    <a:pt x="615" y="1170"/>
                  </a:cubicBezTo>
                  <a:cubicBezTo>
                    <a:pt x="571" y="1230"/>
                    <a:pt x="514" y="1279"/>
                    <a:pt x="412" y="1365"/>
                  </a:cubicBezTo>
                  <a:cubicBezTo>
                    <a:pt x="310" y="1451"/>
                    <a:pt x="155" y="1569"/>
                    <a:pt x="0" y="168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7080" y="3672000"/>
              <a:ext cx="382680" cy="1091160"/>
            </a:xfrm>
            <a:custGeom>
              <a:avLst/>
              <a:gdLst/>
              <a:ahLst/>
              <a:rect l="l" t="t" r="r" b="b"/>
              <a:pathLst>
                <a:path w="444" h="1688">
                  <a:moveTo>
                    <a:pt x="210" y="0"/>
                  </a:moveTo>
                  <a:cubicBezTo>
                    <a:pt x="197" y="203"/>
                    <a:pt x="184" y="406"/>
                    <a:pt x="195" y="540"/>
                  </a:cubicBezTo>
                  <a:cubicBezTo>
                    <a:pt x="206" y="674"/>
                    <a:pt x="252" y="737"/>
                    <a:pt x="278" y="803"/>
                  </a:cubicBezTo>
                  <a:cubicBezTo>
                    <a:pt x="304" y="869"/>
                    <a:pt x="328" y="891"/>
                    <a:pt x="353" y="938"/>
                  </a:cubicBezTo>
                  <a:cubicBezTo>
                    <a:pt x="378" y="985"/>
                    <a:pt x="418" y="1041"/>
                    <a:pt x="428" y="1088"/>
                  </a:cubicBezTo>
                  <a:cubicBezTo>
                    <a:pt x="438" y="1135"/>
                    <a:pt x="444" y="1161"/>
                    <a:pt x="413" y="1223"/>
                  </a:cubicBezTo>
                  <a:cubicBezTo>
                    <a:pt x="382" y="1285"/>
                    <a:pt x="309" y="1386"/>
                    <a:pt x="240" y="1463"/>
                  </a:cubicBezTo>
                  <a:cubicBezTo>
                    <a:pt x="171" y="1540"/>
                    <a:pt x="85" y="1614"/>
                    <a:pt x="0" y="168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52320" y="3743640"/>
              <a:ext cx="1265040" cy="1265400"/>
            </a:xfrm>
            <a:custGeom>
              <a:avLst/>
              <a:gdLst/>
              <a:ahLst/>
              <a:rect l="l" t="t" r="r" b="b"/>
              <a:pathLst>
                <a:path w="1025" h="1470">
                  <a:moveTo>
                    <a:pt x="982" y="0"/>
                  </a:moveTo>
                  <a:cubicBezTo>
                    <a:pt x="1003" y="81"/>
                    <a:pt x="1025" y="162"/>
                    <a:pt x="1020" y="232"/>
                  </a:cubicBezTo>
                  <a:cubicBezTo>
                    <a:pt x="1015" y="302"/>
                    <a:pt x="1002" y="331"/>
                    <a:pt x="952" y="420"/>
                  </a:cubicBezTo>
                  <a:cubicBezTo>
                    <a:pt x="902" y="509"/>
                    <a:pt x="811" y="649"/>
                    <a:pt x="720" y="765"/>
                  </a:cubicBezTo>
                  <a:cubicBezTo>
                    <a:pt x="629" y="881"/>
                    <a:pt x="525" y="1000"/>
                    <a:pt x="405" y="1117"/>
                  </a:cubicBezTo>
                  <a:cubicBezTo>
                    <a:pt x="285" y="1234"/>
                    <a:pt x="142" y="1352"/>
                    <a:pt x="0" y="1470"/>
                  </a:cubicBezTo>
                </a:path>
              </a:pathLst>
            </a:custGeom>
            <a:noFill/>
            <a:ln w="1908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711560" y="3600000"/>
              <a:ext cx="453240" cy="305280"/>
              <a:chOff x="7711560" y="3600000"/>
              <a:chExt cx="453240" cy="3052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7711560" y="3600000"/>
                <a:ext cx="421200" cy="305280"/>
                <a:chOff x="7711560" y="3600000"/>
                <a:chExt cx="421200" cy="30528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rot="18923400">
                  <a:off x="7857000" y="3660120"/>
                  <a:ext cx="245520" cy="18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18923400">
                  <a:off x="7798680" y="3659400"/>
                  <a:ext cx="246240" cy="18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rot="18923400">
                  <a:off x="7740720" y="3660120"/>
                  <a:ext cx="245520" cy="185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 flipH="1">
                <a:off x="7912080" y="3682080"/>
                <a:ext cx="252720" cy="16092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239640" y="3322440"/>
              <a:ext cx="633960" cy="166680"/>
            </a:xfrm>
            <a:custGeom>
              <a:avLst/>
              <a:gdLst/>
              <a:ahLst/>
              <a:rect l="l" t="t" r="r" b="b"/>
              <a:pathLst>
                <a:path w="735" h="86">
                  <a:moveTo>
                    <a:pt x="0" y="0"/>
                  </a:moveTo>
                  <a:cubicBezTo>
                    <a:pt x="6" y="22"/>
                    <a:pt x="12" y="44"/>
                    <a:pt x="39" y="57"/>
                  </a:cubicBezTo>
                  <a:cubicBezTo>
                    <a:pt x="66" y="70"/>
                    <a:pt x="79" y="74"/>
                    <a:pt x="162" y="78"/>
                  </a:cubicBezTo>
                  <a:cubicBezTo>
                    <a:pt x="245" y="82"/>
                    <a:pt x="453" y="80"/>
                    <a:pt x="540" y="81"/>
                  </a:cubicBezTo>
                  <a:cubicBezTo>
                    <a:pt x="627" y="82"/>
                    <a:pt x="652" y="86"/>
                    <a:pt x="684" y="81"/>
                  </a:cubicBezTo>
                  <a:cubicBezTo>
                    <a:pt x="716" y="76"/>
                    <a:pt x="727" y="56"/>
                    <a:pt x="73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60640" y="5470560"/>
              <a:ext cx="3275640" cy="371520"/>
            </a:xfrm>
            <a:custGeom>
              <a:avLst/>
              <a:gdLst/>
              <a:ahLst/>
              <a:rect l="l" t="t" r="r" b="b"/>
              <a:pathLst>
                <a:path w="2565" h="542">
                  <a:moveTo>
                    <a:pt x="0" y="308"/>
                  </a:moveTo>
                  <a:cubicBezTo>
                    <a:pt x="110" y="310"/>
                    <a:pt x="221" y="313"/>
                    <a:pt x="353" y="338"/>
                  </a:cubicBezTo>
                  <a:cubicBezTo>
                    <a:pt x="485" y="363"/>
                    <a:pt x="660" y="428"/>
                    <a:pt x="795" y="458"/>
                  </a:cubicBezTo>
                  <a:cubicBezTo>
                    <a:pt x="930" y="488"/>
                    <a:pt x="972" y="509"/>
                    <a:pt x="1163" y="518"/>
                  </a:cubicBezTo>
                  <a:cubicBezTo>
                    <a:pt x="1354" y="527"/>
                    <a:pt x="1746" y="542"/>
                    <a:pt x="1943" y="510"/>
                  </a:cubicBezTo>
                  <a:cubicBezTo>
                    <a:pt x="2140" y="478"/>
                    <a:pt x="2244" y="408"/>
                    <a:pt x="2348" y="323"/>
                  </a:cubicBezTo>
                  <a:cubicBezTo>
                    <a:pt x="2452" y="238"/>
                    <a:pt x="2508" y="119"/>
                    <a:pt x="2565" y="0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45800" y="3502080"/>
              <a:ext cx="1460880" cy="2066760"/>
            </a:xfrm>
            <a:custGeom>
              <a:avLst/>
              <a:gdLst/>
              <a:ahLst/>
              <a:rect l="l" t="t" r="r" b="b"/>
              <a:pathLst>
                <a:path w="1694" h="3196">
                  <a:moveTo>
                    <a:pt x="1215" y="15"/>
                  </a:moveTo>
                  <a:cubicBezTo>
                    <a:pt x="1277" y="7"/>
                    <a:pt x="1340" y="0"/>
                    <a:pt x="1387" y="7"/>
                  </a:cubicBezTo>
                  <a:cubicBezTo>
                    <a:pt x="1434" y="14"/>
                    <a:pt x="1466" y="25"/>
                    <a:pt x="1500" y="60"/>
                  </a:cubicBezTo>
                  <a:cubicBezTo>
                    <a:pt x="1534" y="95"/>
                    <a:pt x="1564" y="121"/>
                    <a:pt x="1590" y="217"/>
                  </a:cubicBezTo>
                  <a:cubicBezTo>
                    <a:pt x="1616" y="313"/>
                    <a:pt x="1644" y="437"/>
                    <a:pt x="1657" y="637"/>
                  </a:cubicBezTo>
                  <a:cubicBezTo>
                    <a:pt x="1670" y="837"/>
                    <a:pt x="1694" y="1232"/>
                    <a:pt x="1665" y="1417"/>
                  </a:cubicBezTo>
                  <a:cubicBezTo>
                    <a:pt x="1636" y="1602"/>
                    <a:pt x="1585" y="1616"/>
                    <a:pt x="1485" y="1747"/>
                  </a:cubicBezTo>
                  <a:cubicBezTo>
                    <a:pt x="1385" y="1878"/>
                    <a:pt x="1192" y="2069"/>
                    <a:pt x="1065" y="2205"/>
                  </a:cubicBezTo>
                  <a:cubicBezTo>
                    <a:pt x="938" y="2341"/>
                    <a:pt x="788" y="2469"/>
                    <a:pt x="720" y="2565"/>
                  </a:cubicBezTo>
                  <a:cubicBezTo>
                    <a:pt x="652" y="2661"/>
                    <a:pt x="678" y="2719"/>
                    <a:pt x="660" y="2782"/>
                  </a:cubicBezTo>
                  <a:cubicBezTo>
                    <a:pt x="642" y="2845"/>
                    <a:pt x="655" y="2880"/>
                    <a:pt x="615" y="2940"/>
                  </a:cubicBezTo>
                  <a:cubicBezTo>
                    <a:pt x="575" y="3000"/>
                    <a:pt x="485" y="3101"/>
                    <a:pt x="420" y="3142"/>
                  </a:cubicBezTo>
                  <a:cubicBezTo>
                    <a:pt x="355" y="3183"/>
                    <a:pt x="295" y="3178"/>
                    <a:pt x="225" y="3187"/>
                  </a:cubicBezTo>
                  <a:cubicBezTo>
                    <a:pt x="155" y="3196"/>
                    <a:pt x="77" y="3195"/>
                    <a:pt x="0" y="3195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aptop"/>
            <p:cNvSpPr/>
            <p:nvPr/>
          </p:nvSpPr>
          <p:spPr>
            <a:xfrm>
              <a:off x="2590920" y="4558680"/>
              <a:ext cx="2264400" cy="1278000"/>
            </a:xfrm>
            <a:prstGeom prst="pi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982400" y="3297960"/>
              <a:ext cx="718200" cy="430560"/>
              <a:chOff x="4982400" y="3297960"/>
              <a:chExt cx="718200" cy="430560"/>
            </a:xfrm>
          </p:grpSpPr>
          <p:sp>
            <p:nvSpPr>
              <p:cNvPr id="201" name=""/>
              <p:cNvSpPr/>
              <p:nvPr/>
            </p:nvSpPr>
            <p:spPr>
              <a:xfrm>
                <a:off x="5167440" y="3348720"/>
                <a:ext cx="533160" cy="32796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6200000">
                <a:off x="4859640" y="3420720"/>
                <a:ext cx="430560" cy="185040"/>
              </a:xfrm>
              <a:custGeom>
                <a:avLst/>
                <a:gdLst>
                  <a:gd name="textAreaLeft" fmla="*/ 93600 w 430560"/>
                  <a:gd name="textAreaRight" fmla="*/ 336960 w 430560"/>
                  <a:gd name="textAreaTop" fmla="*/ 40320 h 185040"/>
                  <a:gd name="textAreaBottom" fmla="*/ 144720 h 18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75" y="21600"/>
                    </a:lnTo>
                    <a:lnTo>
                      <a:pt x="5325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044680" y="2661480"/>
              <a:ext cx="338760" cy="243000"/>
            </a:xfrm>
            <a:prstGeom prst="wedgeRectCallout">
              <a:avLst>
                <a:gd name="adj1" fmla="val 121754"/>
                <a:gd name="adj2" fmla="val 289199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8160" y="4543560"/>
              <a:ext cx="338760" cy="242280"/>
            </a:xfrm>
            <a:prstGeom prst="wedgeRectCallout">
              <a:avLst>
                <a:gd name="adj1" fmla="val -114884"/>
                <a:gd name="adj2" fmla="val 165199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50560" y="4177800"/>
              <a:ext cx="338760" cy="242280"/>
            </a:xfrm>
            <a:prstGeom prst="wedgeRectCallout">
              <a:avLst>
                <a:gd name="adj1" fmla="val 86134"/>
                <a:gd name="adj2" fmla="val 24253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60840" y="3319920"/>
              <a:ext cx="339480" cy="243000"/>
            </a:xfrm>
            <a:prstGeom prst="wedgeRectCallout">
              <a:avLst>
                <a:gd name="adj1" fmla="val -20736"/>
                <a:gd name="adj2" fmla="val 14653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632640" y="3186360"/>
              <a:ext cx="518400" cy="535680"/>
              <a:chOff x="6632640" y="3186360"/>
              <a:chExt cx="518400" cy="535680"/>
            </a:xfrm>
          </p:grpSpPr>
          <p:sp>
            <p:nvSpPr>
              <p:cNvPr id="208" name=""/>
              <p:cNvSpPr/>
              <p:nvPr/>
            </p:nvSpPr>
            <p:spPr>
              <a:xfrm rot="16200000">
                <a:off x="6624000" y="3195000"/>
                <a:ext cx="535680" cy="51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6661440" y="3208320"/>
                <a:ext cx="460800" cy="492480"/>
                <a:chOff x="6661440" y="3208320"/>
                <a:chExt cx="460800" cy="492480"/>
              </a:xfrm>
            </p:grpSpPr>
            <p:sp>
              <p:nvSpPr>
                <p:cNvPr id="210" name=""/>
                <p:cNvSpPr/>
                <p:nvPr/>
              </p:nvSpPr>
              <p:spPr>
                <a:xfrm rot="16200000">
                  <a:off x="6671520" y="362952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200000">
                  <a:off x="6671520" y="3557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6200000">
                  <a:off x="6671520" y="3485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6200000">
                  <a:off x="6671520" y="3413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6200000">
                  <a:off x="6671520" y="3341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6200000">
                  <a:off x="6671520" y="3270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6200000">
                  <a:off x="6671520" y="3198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6200000">
                  <a:off x="6766200" y="362952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6200000">
                  <a:off x="6766200" y="3557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6200000">
                  <a:off x="6766200" y="3485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6200000">
                  <a:off x="6766200" y="3413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6200000">
                  <a:off x="6766200" y="3341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6200000">
                  <a:off x="6766200" y="3270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6200000">
                  <a:off x="6766200" y="3198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16200000">
                  <a:off x="6861240" y="362952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16200000">
                  <a:off x="6861240" y="3557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16200000">
                  <a:off x="6861240" y="3485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16200000">
                  <a:off x="6861240" y="3413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16200000">
                  <a:off x="6861240" y="3341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16200000">
                  <a:off x="6861240" y="3270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6200000">
                  <a:off x="6861240" y="3198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6200000">
                  <a:off x="6955920" y="362952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6200000">
                  <a:off x="6955920" y="3557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6200000">
                  <a:off x="6955920" y="3485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6200000">
                  <a:off x="6955920" y="3413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6200000">
                  <a:off x="6955920" y="3341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6200000">
                  <a:off x="6955920" y="3270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16200000">
                  <a:off x="6955920" y="3198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6200000">
                  <a:off x="7050960" y="362952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6200000">
                  <a:off x="7050960" y="3557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6200000">
                  <a:off x="7050960" y="348588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16200000">
                  <a:off x="7050960" y="3413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6200000">
                  <a:off x="7050960" y="3341880"/>
                  <a:ext cx="6084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6200000">
                  <a:off x="7050960" y="3270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6200000">
                  <a:off x="7050960" y="3198240"/>
                  <a:ext cx="61200" cy="81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5" name=""/>
            <p:cNvSpPr/>
            <p:nvPr/>
          </p:nvSpPr>
          <p:spPr>
            <a:xfrm>
              <a:off x="7021800" y="2715480"/>
              <a:ext cx="338760" cy="242280"/>
            </a:xfrm>
            <a:prstGeom prst="wedgeRectCallout">
              <a:avLst>
                <a:gd name="adj1" fmla="val -71629"/>
                <a:gd name="adj2" fmla="val 17053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40800" y="3941640"/>
              <a:ext cx="1397880" cy="1746000"/>
            </a:xfrm>
            <a:custGeom>
              <a:avLst/>
              <a:gdLst/>
              <a:ahLst/>
              <a:rect l="l" t="t" r="r" b="b"/>
              <a:pathLst>
                <a:path w="1954" h="2777">
                  <a:moveTo>
                    <a:pt x="972" y="0"/>
                  </a:moveTo>
                  <a:cubicBezTo>
                    <a:pt x="1009" y="7"/>
                    <a:pt x="1046" y="14"/>
                    <a:pt x="1062" y="60"/>
                  </a:cubicBezTo>
                  <a:cubicBezTo>
                    <a:pt x="1078" y="106"/>
                    <a:pt x="1070" y="192"/>
                    <a:pt x="1069" y="277"/>
                  </a:cubicBezTo>
                  <a:cubicBezTo>
                    <a:pt x="1068" y="362"/>
                    <a:pt x="1083" y="482"/>
                    <a:pt x="1054" y="570"/>
                  </a:cubicBezTo>
                  <a:cubicBezTo>
                    <a:pt x="1025" y="658"/>
                    <a:pt x="1044" y="638"/>
                    <a:pt x="897" y="802"/>
                  </a:cubicBezTo>
                  <a:cubicBezTo>
                    <a:pt x="750" y="966"/>
                    <a:pt x="315" y="1356"/>
                    <a:pt x="169" y="1552"/>
                  </a:cubicBezTo>
                  <a:cubicBezTo>
                    <a:pt x="23" y="1748"/>
                    <a:pt x="38" y="1845"/>
                    <a:pt x="19" y="1980"/>
                  </a:cubicBezTo>
                  <a:cubicBezTo>
                    <a:pt x="0" y="2115"/>
                    <a:pt x="19" y="2258"/>
                    <a:pt x="57" y="2362"/>
                  </a:cubicBezTo>
                  <a:cubicBezTo>
                    <a:pt x="95" y="2466"/>
                    <a:pt x="105" y="2537"/>
                    <a:pt x="244" y="2602"/>
                  </a:cubicBezTo>
                  <a:cubicBezTo>
                    <a:pt x="383" y="2667"/>
                    <a:pt x="683" y="2727"/>
                    <a:pt x="889" y="2752"/>
                  </a:cubicBezTo>
                  <a:cubicBezTo>
                    <a:pt x="1095" y="2777"/>
                    <a:pt x="1328" y="2774"/>
                    <a:pt x="1482" y="2752"/>
                  </a:cubicBezTo>
                  <a:cubicBezTo>
                    <a:pt x="1636" y="2730"/>
                    <a:pt x="1733" y="2686"/>
                    <a:pt x="1812" y="2617"/>
                  </a:cubicBezTo>
                  <a:cubicBezTo>
                    <a:pt x="1891" y="2548"/>
                    <a:pt x="1922" y="2444"/>
                    <a:pt x="1954" y="2340"/>
                  </a:cubicBez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526000" y="3779280"/>
              <a:ext cx="345240" cy="369720"/>
              <a:chOff x="5526000" y="3779280"/>
              <a:chExt cx="345240" cy="369720"/>
            </a:xfrm>
          </p:grpSpPr>
          <p:sp>
            <p:nvSpPr>
              <p:cNvPr id="248" name=""/>
              <p:cNvSpPr/>
              <p:nvPr/>
            </p:nvSpPr>
            <p:spPr>
              <a:xfrm>
                <a:off x="5614920" y="3823200"/>
                <a:ext cx="256320" cy="28152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6200000">
                <a:off x="5385600" y="3919680"/>
                <a:ext cx="369720" cy="88920"/>
              </a:xfrm>
              <a:custGeom>
                <a:avLst/>
                <a:gdLst>
                  <a:gd name="textAreaLeft" fmla="*/ 80640 w 369720"/>
                  <a:gd name="textAreaRight" fmla="*/ 289080 w 369720"/>
                  <a:gd name="textAreaTop" fmla="*/ 19440 h 88920"/>
                  <a:gd name="textAreaBottom" fmla="*/ 6948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75" y="21600"/>
                    </a:lnTo>
                    <a:lnTo>
                      <a:pt x="5325" y="21600"/>
                    </a:lnTo>
                    <a:close/>
                  </a:path>
                </a:pathLst>
              </a:cu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54400" y="4290840"/>
              <a:ext cx="339480" cy="248040"/>
            </a:xfrm>
            <a:prstGeom prst="wedgeRectCallout">
              <a:avLst>
                <a:gd name="adj1" fmla="val 170101"/>
                <a:gd name="adj2" fmla="val -1500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8303400" y="5203440"/>
              <a:ext cx="445320" cy="186480"/>
              <a:chOff x="8303400" y="5203440"/>
              <a:chExt cx="445320" cy="18648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8485560" y="5203440"/>
                <a:ext cx="263160" cy="42120"/>
                <a:chOff x="8485560" y="5203440"/>
                <a:chExt cx="263160" cy="421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8485560" y="520344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566560" y="520344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647560" y="520344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8424720" y="5251320"/>
                <a:ext cx="263160" cy="42120"/>
                <a:chOff x="8424720" y="5251320"/>
                <a:chExt cx="263160" cy="42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8424720" y="525132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505720" y="525132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586720" y="525132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8363880" y="5299560"/>
                <a:ext cx="263160" cy="42120"/>
                <a:chOff x="8363880" y="5299560"/>
                <a:chExt cx="263160" cy="421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363880" y="529956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444880" y="529956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525880" y="529956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8303400" y="5347800"/>
                <a:ext cx="263160" cy="42120"/>
                <a:chOff x="8303400" y="5347800"/>
                <a:chExt cx="263160" cy="421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8303400" y="534780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534780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465400" y="5347800"/>
                  <a:ext cx="101160" cy="4212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8539560" y="4361760"/>
              <a:ext cx="339480" cy="243000"/>
            </a:xfrm>
            <a:prstGeom prst="wedgeRectCallout">
              <a:avLst>
                <a:gd name="adj1" fmla="val -20736"/>
                <a:gd name="adj2" fmla="val 14653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quipamentos e pesquis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squisa retina artificial: Ch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squisa estimulação de córtex: Dobel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A –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lectronic travel aid: vários, por ultra-som / infravermel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SS – sistemas de substituição senso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ipa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dis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eidelbe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ap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uv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quipamentos e pesquisas existent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19320" y="1841400"/>
            <a:ext cx="69339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ntagens do SSS do LAC sobre implantes e outros SS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nor custo e facilidade de implantaçã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&gt; maior acessibilidade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 cirurgia (não invasiv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 infec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 limitações espor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s em curto prazo, foca num problema, nao em substituir totalmente a vis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so em pacientes com visão subnormal e cegueira por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alquer orige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, sem limitação (ao contrário da retina artificial e estimulação direta do córtex), desde que mantenha a sensibilidade  táctil em alguma área do corp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co: Orientação e mobilidad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as para usar os sentidos remanescentes para se orienta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utoproteção: usar o corpo e equipamentos para locomoção e exploração do ambien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lgoritmos par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teção inferior e superior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astreamento com a mão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quadramento e tomada de direção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ocalização de objeto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cedimentos com trincos e maçaneta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amiliariza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co:  Rastreamento e familiarizaçã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écnicas de rastreamen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vimentos circulares (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que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v. em linhas verticais e horizontais (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ra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écnicas de familiarizaç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íme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375768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OM_fami2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1628640" cy="2552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6957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OM_fami5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1752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I - Captura d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imagem 1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373356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ostragem/ resolução espaci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2x512,  256x256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x128,    64x64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x32,     16x1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38764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PI – Captura da Imagem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antização dos níveis de cinza: 512X512, com níveis de cinz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56,               128,                           16,      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64,                32,                             4,   2 (imagem binária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64008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 – Captura da imagem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0866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ita por webc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B24: 3 cores de 8 bits (256 níve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0 x 240 pixe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ÇÃO DA APRESENTAÇÃO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oria: estimulação táctil, processamento de imag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amentos e pesquisas exist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to e implementaçã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s prelimin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: PI – diminuição de resoluçã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: PI – detecção de bord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: PI – difusão anisotróp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666880" y="23623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724280" y="2362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6858000" y="23623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86228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oculos" descr=""/>
          <p:cNvPicPr/>
          <p:nvPr/>
        </p:nvPicPr>
        <p:blipFill>
          <a:blip r:embed="rId1"/>
          <a:stretch/>
        </p:blipFill>
        <p:spPr>
          <a:xfrm>
            <a:off x="1862280" y="1195560"/>
            <a:ext cx="5419440" cy="44668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ótipo 2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 o PC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ebcam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: local da estimulaca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ssive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do (7x7) maior densidad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(12x12) menor V, saliva é condutor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lato(8x8) menor V, sem sensores gusta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dom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or densidade mas maior area, 15x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eptores nervos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5029200" cy="3537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ferenciam-se pe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ipo de estímulo ao qual é sensi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do recep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mpo de adaptaçã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570852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ipos de estimulacao tactil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canica (vibratoria) x elet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imulação vibratór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ome mais ener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manho ma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de ser por movimentação mecânica p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feito piezoelét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neumátic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icromotor elét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lementação mais difíc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imulação elétric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or consumo de ener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pende da forma de on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eqüê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pende do eletr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mençõ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paça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ercyBFMmod" descr=""/>
          <p:cNvPicPr/>
          <p:nvPr/>
        </p:nvPicPr>
        <p:blipFill>
          <a:blip r:embed="rId1"/>
          <a:srcRect l="0" t="0" r="0" b="22520"/>
          <a:stretch/>
        </p:blipFill>
        <p:spPr>
          <a:xfrm>
            <a:off x="4267080" y="2895480"/>
            <a:ext cx="510552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 – HW: Microcontrolado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do por facilitar a temporização precisa do equip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do kit compatível 8051, da CN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ar sistema para auxiliar na mobilidade de deficientes visuais através de captura de imagem e eletro-estimulação pa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ar mapa mental, para familiarização em ambientes desconhecidos (Orientação e Mobilida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ação e OCR para permitir leitura de letre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: HW: Eletro-estimulador 1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620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 de o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em de pulsos, 100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µs, 4 a 5 pulsos, 30 ms interva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 Oscilado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icial: dois timers 5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justavel por SW no 805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 de amplificação do s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fo de pulso + TIP1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2544840"/>
            <a:ext cx="914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: HW: Eletro-estimulador 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44840"/>
            <a:ext cx="914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160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90528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: HW: Eletro-estimulador 3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544840"/>
            <a:ext cx="914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472464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: HW – amplitude e alimentaca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juste da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ntado com ajuste de ganho do T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pois chaveando o TIP, ajuste total via ajuste da alimentacao com LM3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 de chave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ntado com bipolar, FET, 4N38, MOC, ponte dio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lementado com SS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imentacao: NiM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lhor combinacao de densidade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cilidade de obtencao x cus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40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: HW: Matriz de eletrodos 1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mporário: PCI de fib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nal: Circuito Impresso Flexível (CI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ditivo: poliester+tinta de pr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btrativo: pyralux (kapton +cob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mensões: 1 c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ciona o eletrodo corres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ndente a cada pixel d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mag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40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: HW: Matriz de eletrodos 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140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36720" y="1905120"/>
            <a:ext cx="2865600" cy="4572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96064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: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Softwar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de contro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colha de estímul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argura de puls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iclo de trabalho (equivale à freq.do puls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úmero de pulsos por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u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tervalo entr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urs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colha de qual padrão geométrico ou imagem do P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colh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modo de estimulaçã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arimbo” (todos praticamente junto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or coluna alternand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or coluna mantendo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: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Softwar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de processamento de image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rrament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ótipo em MATLAB: agilidade na prototip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com Java: usa JMF para Webcam - simplific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unicação PC – microcontrola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qüência com melhores resul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verter para tons de ci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plificar imag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tectar bor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nar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minuir resolu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STES 1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Prelimin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.definir a melhor forma de ond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 espaçamento e tamanho de eletrodos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. Definição de como desenhar as figuras,  (usar o efeito saltatório)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trodos a serem ativados serão ligados ao mesmo tempo, por coluna ou ponto a pont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Treinamento geométr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ha horizontal, vertical, diagonal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do, triangulo, circu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ras, núme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Imagens do PC, recebidas pela porta s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STES 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ar 3 grupo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gos congênit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gos adquirid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den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inar padrões por cerca de 10 hor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ois passar imagens controlad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típicos: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ntar mapa mental de ambientes desconhec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r letreiros de ônibus e número de salas em prédios e esc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sultados preliminar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sumo (medido com trafo antig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r eletrodo: 40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µ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com leds ativos: 300 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com leds off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ensaçã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quer gel para não dar “agulhada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quer ajuste de intensidade por usuár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elhorias: o que falta terminar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grar ultra-som para dist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 de segmentação de letre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 de simplificação por difusão anisotróp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alizando treinamento de usuarios, falta  testar com imagens de 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lhorias: propostas futur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144000" y="1828800"/>
            <a:ext cx="6553080" cy="4572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219320" y="2362320"/>
            <a:ext cx="6019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iniaturizar com sensor CCD ou 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tegrar processador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Usar S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86228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oculos" descr=""/>
          <p:cNvPicPr/>
          <p:nvPr/>
        </p:nvPicPr>
        <p:blipFill>
          <a:blip r:embed="rId1"/>
          <a:stretch/>
        </p:blipFill>
        <p:spPr>
          <a:xfrm>
            <a:off x="1862280" y="1195560"/>
            <a:ext cx="6595920" cy="543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ótipo 2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 o PC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ebcam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ibuições</a:t>
            </a:r>
            <a:r>
              <a:rPr b="1" lang="pt-BR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ção de diversas técnic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ução de um problema inédito e de cunho so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triz de eletrodos inovad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rcuito estimul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o do efeito saltató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ste de parâmetros de estimul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clusão fin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ensação de vibração se bem ajus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usado põe pesquisadores de psicologia experimental em estudos de cognição e aprendizag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usado por fisiologistas em estudos de sistema somestés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usado 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earing Aid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e mudado o sensor (microfone x câmera) 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gradecimen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 UCDB pelo apoio financei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ndacao Dorina Nowill para cegos pelo apoio tecnico e foco nos probl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uro@compu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oculos" descr=""/>
          <p:cNvPicPr/>
          <p:nvPr/>
        </p:nvPicPr>
        <p:blipFill>
          <a:blip r:embed="rId1"/>
          <a:stretch/>
        </p:blipFill>
        <p:spPr>
          <a:xfrm>
            <a:off x="4952880" y="3403440"/>
            <a:ext cx="396252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zinhança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or a janela, melhor o filtro; pior o desempen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8080" y="2619360"/>
            <a:ext cx="7848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cessamento espacial x em freqüênc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acia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balha com os valores dos pixe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reqüênci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 por Transformadas (Fourier, Wavelets, DCT, Hough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uso de filtros: Ex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ssa-baixa p/eliminar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ssa-alta p/aumentar defini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cessamento Não linear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rfologia matemátic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bstitui grupos de pixels por elementos pré-defini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aço de escala: (ex:difusão anisotrópi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elhante ao estudo de difusão de calor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962520" y="4800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5791320" y="4800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6705720" y="4800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posta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stema para passar informações visuais através do t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gorítmos típic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lh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moothing: suaviz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harpe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qualização de histogr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tau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dificação e compress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tecção de bord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tecção de bord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roximação de derivada discret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berts (janela 2x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bel (3x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n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lica-se janela deslizante substituindo centro da jane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 detecção horizon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140209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minuir resoluçã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piramidal: substitui cada grupo de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lementos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 aritmét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do gru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gmentaçã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colher região de interes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: placa de carro em foto para mul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ítm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atershed se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-sp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por inversões em letre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onhecimento de caracteres por redes neurai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371600" y="3962520"/>
          <a:ext cx="243828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62520"/>
                    <a:ext cx="243828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écnica mais simples de implementar, apenas p/tes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parar a região da imagem contendo o letrei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gmentar os caract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conhecer os caract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ultidisciplinaridade: fisiologia, visão, cognição, técnicas de O&amp;M, eletrônica digital e analógica, de potência, transformadores, baterias recarregáveis,  circuitos flexíveis, microprocessadores, processamento de imagens, reconhecimento de padrões, redes neurais, normas técnicas eletro-méd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enômeno ph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isual: ao alternar pontos, aparecem pontos intermediá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áctil (phantom sensation): semelhante cria ponto táctil intermediário, fantas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BS: não confundir com sensação fantasma de membros ampu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lhorias propostas p/após doutorado 1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pensar baixa resoluçã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m botão de 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zoom in e out,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riar uma rotina de 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croll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(deslizamento da tela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econhecer caracteres e traduzir para símbolos Brail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or eletro-estimulacao como atu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or síntese de vo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or célula Braille mecânica (pinos salient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otimizar desenho da matriz para aproveitar efeito saltató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elhorar técnicas de detecção de bordas e simplificação de image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alvez spline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linearização dos segmentos das bordas (aproximação poligona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entar passar tons de cinza por half-ton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entar passar cores através de temperatura talv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entar usar célula combustível para aumentar autonomia de bateri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usar mais de uma matriz colocadas espacialm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usar reconhecimento de padrões acoplado a banco de imagens e síntese de voz (talvez usar técnicas adaptativas para aumentar o banco de imagen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lhorias propostas p/após doutorado 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daptar um sensor de imagem no dedo para permitir leitura de livros e revistas (junto com OCR e síntese de voz, e zoo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ncluir detector de luz para se estiver com baixa luminosidade dispara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lash ao “bater” a fo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cender um conjunt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ed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infravermelh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estar novas áreas de estimulação (dedo, palma da mão, etc...) co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icroeletrod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tuadores piezoelétr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sar 2 câmaras para tentar estereoscopia; vai requerer mais treinamento do usuá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são humana x Tato (sist.somestésico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ssui camadas para detectar conto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ior densidade de receptores nervos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ior representação cort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ssui estereoscopia (2 olh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EREOSCOPIA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o mais comum de determinar profundida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olhos ligeiramente deslocados em relação ao seu eixo central, com sobreposição dos campos de vis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e-se calcular geometricamente a profund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iculdade  de determinar o cruzamento dos ra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ções tecnológicas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 diminuir os efeitos do tato, preproces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tectar conto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minuir resolu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iar eletrodos virtu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apas seguintes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ssa serialmente a um microcontrolad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ciona um grupo de estimul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triz de eletro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ltra-som para compensar falta de estereoscop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51:01Z</dcterms:created>
  <dc:creator>M P</dc:creator>
  <dc:description/>
  <dc:language>en-US</dc:language>
  <cp:lastModifiedBy>X X</cp:lastModifiedBy>
  <dcterms:modified xsi:type="dcterms:W3CDTF">2005-06-01T22:55:32Z</dcterms:modified>
  <cp:revision>103</cp:revision>
  <dc:subject/>
  <dc:title>Sistema de substituição sensorial para auxílio a deficientes visuais via técnicas de processamento de imagens e eletro-estimulação cutânea  Mauro Conti Pereira - novembro de 2003 </dc:title>
</cp:coreProperties>
</file>